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33EC-6F0C-4D90-B03C-5DDD29C07EE0}"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8688BE3-0FD2-45FD-B11B-B20B8361AC2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4C604-E90F-4D55-A899-7C2B1A218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5A2E0-230D-4813-84DA-A6D43322C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E8D6D-9420-4FAD-9838-91BED8ED8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49528-5E0D-49C1-953F-E36051979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EAF68-7C2A-4F93-9A00-A172B5D49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635DF-9A18-47A3-A72C-CD141409E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346DB-3AD9-4969-85F0-85011D8D9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6A1F9-E8AE-4949-B896-C39115FDC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87587-8B99-405C-8637-E912B44BE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B8EC1-927C-4461-8139-1338BC5BF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4CBCC-FB63-4E6D-A257-EFDE5B3AE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9847A-2830-4A51-AD41-FBDB113B7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D8D8-2CB4-4917-8F2C-311BD5016D8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aplicacionespruebas.ins.gov.co/SVEMMBW/" TargetMode="External"/><Relationship Id="rId2" Type="http://schemas.openxmlformats.org/officeDocument/2006/relationships/hyperlink" Target="http://aplicacionesproduccion.ins.gov.co/SVEMMBW"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logoINS"/>
          <p:cNvPicPr/>
          <p:nvPr/>
        </p:nvPicPr>
        <p:blipFill>
          <a:blip r:embed="rId1">
            <a:lum contrast="10000"/>
          </a:blip>
          <a:stretch/>
        </p:blipFill>
        <p:spPr>
          <a:xfrm>
            <a:off x="1785960" y="1214280"/>
            <a:ext cx="5786280" cy="4345200"/>
          </a:xfrm>
          <a:prstGeom prst="rect">
            <a:avLst/>
          </a:prstGeom>
          <a:ln w="0">
            <a:noFill/>
          </a:ln>
          <a:effectLst>
            <a:outerShdw dist="139498" dir="2700000" blurRad="0" rotWithShape="0">
              <a:srgbClr val="333333">
                <a:alpha val="65000"/>
              </a:srgbClr>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5 Imagen" descr="Imagen pantalla inicio SVEMMBW.bmp"/>
          <p:cNvPicPr/>
          <p:nvPr/>
        </p:nvPicPr>
        <p:blipFill>
          <a:blip r:embed="rId1"/>
          <a:stretch/>
        </p:blipFill>
        <p:spPr>
          <a:xfrm>
            <a:off x="179280" y="0"/>
            <a:ext cx="8713800" cy="626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Users\JHON GOOT\Desktop\SVEMM_Doc\presentaciontallerOPS\DgramGeneral.jpg"/>
          <p:cNvPicPr/>
          <p:nvPr/>
        </p:nvPicPr>
        <p:blipFill>
          <a:blip r:embed="rId1"/>
          <a:stretch/>
        </p:blipFill>
        <p:spPr>
          <a:xfrm>
            <a:off x="395280" y="836640"/>
            <a:ext cx="8497800" cy="5406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Users\JHON GOOT\Desktop\SVEMM_Doc\presentaciontallerOPS\WebReporte.jpg"/>
          <p:cNvPicPr/>
          <p:nvPr/>
        </p:nvPicPr>
        <p:blipFill>
          <a:blip r:embed="rId1"/>
          <a:stretch/>
        </p:blipFill>
        <p:spPr>
          <a:xfrm>
            <a:off x="250920" y="836640"/>
            <a:ext cx="8642160" cy="538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Users\JHON GOOT\Desktop\SVEMM_Doc\presentaciontallerOPS\WebRecoleccion.jpg"/>
          <p:cNvPicPr/>
          <p:nvPr/>
        </p:nvPicPr>
        <p:blipFill>
          <a:blip r:embed="rId1"/>
          <a:stretch/>
        </p:blipFill>
        <p:spPr>
          <a:xfrm>
            <a:off x="250920" y="765000"/>
            <a:ext cx="8545320" cy="543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C:\Users\JHON GOOT\Desktop\SVEMM_Doc\presentaciontallerOPS\WebAnalisis.jpg"/>
          <p:cNvPicPr/>
          <p:nvPr/>
        </p:nvPicPr>
        <p:blipFill>
          <a:blip r:embed="rId1"/>
          <a:stretch/>
        </p:blipFill>
        <p:spPr>
          <a:xfrm>
            <a:off x="179280" y="907920"/>
            <a:ext cx="8709120" cy="532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Users\JHON GOOT\Desktop\SVEMM_Doc\presentaciontallerOPS\LocalReporte.jpg"/>
          <p:cNvPicPr/>
          <p:nvPr/>
        </p:nvPicPr>
        <p:blipFill>
          <a:blip r:embed="rId1"/>
          <a:stretch/>
        </p:blipFill>
        <p:spPr>
          <a:xfrm>
            <a:off x="338040" y="907920"/>
            <a:ext cx="8555040" cy="532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C:\Users\JHON GOOT\Desktop\SVEMM_Doc\presentaciontallerOPS\LocalRecol.jpg"/>
          <p:cNvPicPr/>
          <p:nvPr/>
        </p:nvPicPr>
        <p:blipFill>
          <a:blip r:embed="rId1"/>
          <a:stretch/>
        </p:blipFill>
        <p:spPr>
          <a:xfrm>
            <a:off x="179280" y="836640"/>
            <a:ext cx="8713800" cy="535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C:\Users\JHON GOOT\Desktop\SVEMM_Doc\presentaciontallerOPS\LocalAnalisis.jpg"/>
          <p:cNvPicPr/>
          <p:nvPr/>
        </p:nvPicPr>
        <p:blipFill>
          <a:blip r:embed="rId1"/>
          <a:stretch/>
        </p:blipFill>
        <p:spPr>
          <a:xfrm>
            <a:off x="250920" y="981000"/>
            <a:ext cx="8642160" cy="525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C:\Users\JHON GOOT\Desktop\SVEMM_Doc\presentaciontallerOPS\FisicoIdentificacion.jpg"/>
          <p:cNvPicPr/>
          <p:nvPr/>
        </p:nvPicPr>
        <p:blipFill>
          <a:blip r:embed="rId1"/>
          <a:stretch/>
        </p:blipFill>
        <p:spPr>
          <a:xfrm>
            <a:off x="179280" y="836640"/>
            <a:ext cx="8713800" cy="5400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C:\Users\JHON GOOT\Desktop\SVEMM_Doc\presentaciontallerOPS\FisicoRecoleccion.jpg"/>
          <p:cNvPicPr/>
          <p:nvPr/>
        </p:nvPicPr>
        <p:blipFill>
          <a:blip r:embed="rId1"/>
          <a:stretch/>
        </p:blipFill>
        <p:spPr>
          <a:xfrm>
            <a:off x="250920" y="836640"/>
            <a:ext cx="8643960" cy="540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73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Inducción y capacitación </a:t>
            </a:r>
            <a:br>
              <a:rPr sz="2400"/>
            </a:br>
            <a:r>
              <a:rPr b="1" lang="es-ES_tradnl" sz="2400" spc="-1" strike="noStrike">
                <a:solidFill>
                  <a:srgbClr val="000000"/>
                </a:solidFill>
                <a:latin typeface="Arial Narrow"/>
              </a:rPr>
              <a:t>Sistema de Vigilancia Epidemiológica de Mortalidad Materna Basado en la Web</a:t>
            </a:r>
            <a:br>
              <a:rPr sz="2400"/>
            </a:br>
            <a:endParaRPr b="0" lang="en-US" sz="2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Octubre 3, 4 y 5 de 2012</a:t>
            </a:r>
            <a:br>
              <a:rPr sz="2400"/>
            </a:b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C:\Users\JHON GOOT\Desktop\SVEMM_Doc\presentaciontallerOPS\FisicoAnalisis.jpg"/>
          <p:cNvPicPr/>
          <p:nvPr/>
        </p:nvPicPr>
        <p:blipFill>
          <a:blip r:embed="rId1"/>
          <a:stretch/>
        </p:blipFill>
        <p:spPr>
          <a:xfrm>
            <a:off x="250920" y="836640"/>
            <a:ext cx="8642160" cy="540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250920" y="1052640"/>
            <a:ext cx="8642160" cy="64764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Ingreso al Sistema </a:t>
            </a:r>
            <a:endParaRPr b="0" lang="en-US" sz="2800" spc="-1" strike="noStrike">
              <a:solidFill>
                <a:srgbClr val="000000"/>
              </a:solidFill>
              <a:latin typeface="Arial"/>
            </a:endParaRPr>
          </a:p>
        </p:txBody>
      </p:sp>
      <p:sp>
        <p:nvSpPr>
          <p:cNvPr id="74" name="3 CuadroTexto"/>
          <p:cNvSpPr/>
          <p:nvPr/>
        </p:nvSpPr>
        <p:spPr>
          <a:xfrm>
            <a:off x="539640" y="2060640"/>
            <a:ext cx="813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mbiente de prueb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u="sng">
                <a:solidFill>
                  <a:srgbClr val="0000ff"/>
                </a:solidFill>
                <a:uFillTx/>
                <a:latin typeface="Arial"/>
                <a:hlinkClick r:id="rId1"/>
              </a:rPr>
              <a:t>http://aplicacionespruebas.ins.gov.co/SVEMMBW/</a:t>
            </a:r>
            <a:br>
              <a:rPr sz="1800"/>
            </a:b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mbiente de produc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ff"/>
                </a:solidFill>
                <a:uFillTx/>
                <a:latin typeface="Arial"/>
                <a:hlinkClick r:id="rId2"/>
              </a:rPr>
              <a:t>http://aplicacionesproduccion.ins.gov.co/SVEMMBW</a:t>
            </a:r>
            <a:r>
              <a:rPr b="1"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395280" y="970920"/>
            <a:ext cx="828036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Narrow"/>
              </a:rPr>
              <a:t>Entidades y Organizaciones participantes del proye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Ministerio de Salud y Protección Soc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Instituto Nacional de Salu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s Departamentales de Salud de Antioquia, Caldas, Val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s Municipales de Salud de Medellín, Manizales y C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 Distrital de Salud de Bogotá, D.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Organización Mundial de la Salud, Departamento de MPS/CAH  Ginebra, Sui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Organización Panamericana de la Salud/ Oficina de la Representación en Colomb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 Latinoamericano de Perinatología-CLAP, Organización Panamericana de la Salud Montevideo, Urugu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 NACER, Salud Sexual y reproductiva - Universidad de Antioqu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s para el Control y Prevención de Enfermedades (CD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Narrow"/>
              </a:rPr>
              <a:t>Agencia auspiciadora del proye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Agencia de los Estados Unidos para el Desarrollo Internacional (USAID), Oficina América Latina y el Caribe, Washington D.C., Estados Unidos de Norteamé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Título"/>
          <p:cNvSpPr/>
          <p:nvPr/>
        </p:nvSpPr>
        <p:spPr>
          <a:xfrm>
            <a:off x="685800" y="224640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_tradnl" sz="2400" spc="-1" strike="noStrike">
                <a:solidFill>
                  <a:srgbClr val="000000"/>
                </a:solidFill>
                <a:latin typeface="Arial Narrow"/>
              </a:rPr>
              <a:t>Componente informático del SVEMMBW y ambientes de trabajo</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250920" y="836640"/>
            <a:ext cx="8642160" cy="100800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Prerrequisitos </a:t>
            </a:r>
            <a:endParaRPr b="0" lang="en-US" sz="2800" spc="-1" strike="noStrike">
              <a:solidFill>
                <a:srgbClr val="000000"/>
              </a:solidFill>
              <a:latin typeface="Arial"/>
            </a:endParaRPr>
          </a:p>
        </p:txBody>
      </p:sp>
      <p:sp>
        <p:nvSpPr>
          <p:cNvPr id="54" name="6 Rectángulo"/>
          <p:cNvSpPr/>
          <p:nvPr/>
        </p:nvSpPr>
        <p:spPr>
          <a:xfrm>
            <a:off x="250920" y="3645000"/>
            <a:ext cx="8642160" cy="1100160"/>
          </a:xfrm>
          <a:prstGeom prst="rect">
            <a:avLst/>
          </a:prstGeom>
          <a:solidFill>
            <a:srgbClr val="cbcbcb">
              <a:alpha val="90000"/>
            </a:srgbClr>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Internet Explorer Versión 6.0. En adelante y Mozilla  Firefox versión 2 en adelante, se ha probado en otros navegadores como Opera, Safari y Netscape respectivamente. </a:t>
            </a:r>
            <a:endParaRPr b="0" lang="en-US" sz="1800" spc="-1" strike="noStrike">
              <a:solidFill>
                <a:srgbClr val="000000"/>
              </a:solidFill>
              <a:latin typeface="Arial"/>
            </a:endParaRPr>
          </a:p>
        </p:txBody>
      </p:sp>
      <p:sp>
        <p:nvSpPr>
          <p:cNvPr id="55" name="7 Rectángulo"/>
          <p:cNvSpPr/>
          <p:nvPr/>
        </p:nvSpPr>
        <p:spPr>
          <a:xfrm>
            <a:off x="250920" y="2212920"/>
            <a:ext cx="8642160" cy="1100160"/>
          </a:xfrm>
          <a:prstGeom prst="rect">
            <a:avLst/>
          </a:prstGeom>
          <a:solidFill>
            <a:srgbClr val="cbcbcb">
              <a:alpha val="90000"/>
            </a:srgbClr>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istema operativo Windows XP o superior. ( Puede funcionar  en sistemas operativos Windows 98, pero se tendrían inconvenientes con el navegador de internet que normalmente se usa  con este SO,  por lo tanto no se recomienda su uso). </a:t>
            </a:r>
            <a:endParaRPr b="0" lang="en-US" sz="1800" spc="-1" strike="noStrike">
              <a:solidFill>
                <a:srgbClr val="000000"/>
              </a:solidFill>
              <a:latin typeface="Arial"/>
            </a:endParaRPr>
          </a:p>
        </p:txBody>
      </p:sp>
      <p:sp>
        <p:nvSpPr>
          <p:cNvPr id="56" name="8 Rectángulo"/>
          <p:cNvSpPr/>
          <p:nvPr/>
        </p:nvSpPr>
        <p:spPr>
          <a:xfrm>
            <a:off x="250920" y="4941720"/>
            <a:ext cx="8642160" cy="1098720"/>
          </a:xfrm>
          <a:prstGeom prst="rect">
            <a:avLst/>
          </a:prstGeom>
          <a:solidFill>
            <a:srgbClr val="cbcbcb">
              <a:alpha val="90000"/>
            </a:srgbClr>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quipo de computo con memoria  RAM 250 MB, CPU Pentium  4,1.6 GHz, Disco duro  40G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250920" y="907920"/>
            <a:ext cx="846432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857160" y="928800"/>
            <a:ext cx="7643880" cy="507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642960" y="1000080"/>
            <a:ext cx="8001000" cy="507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250920" y="907920"/>
            <a:ext cx="8642160" cy="50508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Roles de administrador  SVEMMBW</a:t>
            </a:r>
            <a:endParaRPr b="0" lang="en-US" sz="2800" spc="-1" strike="noStrike">
              <a:solidFill>
                <a:srgbClr val="000000"/>
              </a:solidFill>
              <a:latin typeface="Arial"/>
            </a:endParaRPr>
          </a:p>
        </p:txBody>
      </p:sp>
      <p:graphicFrame>
        <p:nvGraphicFramePr>
          <p:cNvPr id="61" name=""/>
          <p:cNvGraphicFramePr/>
          <p:nvPr/>
        </p:nvGraphicFramePr>
        <p:xfrm>
          <a:off x="250920" y="1700280"/>
          <a:ext cx="8640720" cy="4545000"/>
        </p:xfrm>
        <a:graphic>
          <a:graphicData uri="http://schemas.openxmlformats.org/drawingml/2006/table">
            <a:tbl>
              <a:tblPr/>
              <a:tblGrid>
                <a:gridCol w="2047680"/>
                <a:gridCol w="2394000"/>
                <a:gridCol w="1805040"/>
                <a:gridCol w="2394000"/>
              </a:tblGrid>
              <a:tr h="182880">
                <a:tc>
                  <a:txBody>
                    <a:bodyPr lIns="62640" rIns="62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ea typeface="Times New Roman"/>
                        </a:rPr>
                        <a:t>Nombre del Rol</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2640" rIns="62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ea typeface="Times New Roman"/>
                        </a:rPr>
                        <a:t>Módul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2640" rIns="62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ea typeface="Times New Roman"/>
                        </a:rPr>
                        <a:t>Descripción</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2640" rIns="62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ea typeface="Times New Roman"/>
                        </a:rPr>
                        <a:t>Opciones</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49360">
                <a:tc rowSpan="2">
                  <a:txBody>
                    <a:bodyPr lIns="62640" rIns="6264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Súp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dministrado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Nación</a:t>
                      </a:r>
                      <a:endParaRPr b="0" lang="en-US" sz="1200" spc="-1" strike="noStrike">
                        <a:solidFill>
                          <a:srgbClr val="000000"/>
                        </a:solidFill>
                        <a:latin typeface="Arial"/>
                      </a:endParaRPr>
                    </a:p>
                  </a:txBody>
                  <a:tcPr anchor="ctr"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dministración </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El usuario que va a contar con los privilegios totales sobre el aplicativo SVEMMBW</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Este usuario pertenece al nivel nacional</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Modificar clav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ctualizar estado Usuari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Modificar Usuari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r h="69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Reportes</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Consulta por UPGD, Municipio, Departamento y País</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r h="549360">
                <a:tc rowSpan="2">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dministrador Departamenta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Departament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dministración </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El usuario que va a contar con los privilegios totales sobre el aplicativo SVEMMBW  para cada Departament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Modificar clav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ctualizar estado Usuari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Modificar Usuario </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r h="54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Reportes</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Consulta por UPGD, Municipio de su departament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r h="547920">
                <a:tc rowSpan="2">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dministrador  Municipa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Municipi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dministración </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El usuario que va contar con los privilegios totales sobre el aplicativo SVEMMBW  para cada municipi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Modificar clav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ctualizar estado Usuari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Modificar Usuari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r h="461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Reportes</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Consulta por UPGD del municipi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r h="547920">
                <a:tc rowSpan="2">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dministrador UPGD</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Institución de Salud</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dministración </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El usuario que va contar con los privilegios totales sobre el aplicativo SVEMMBW  para cada UPGD</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Modificar clav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ctualizar estado Usuari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Modificar Usuari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r h="46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Reportes</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Consulta de la UPGD</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7:31:15Z</dcterms:created>
  <dc:creator>k</dc:creator>
  <dc:description/>
  <dc:language>en-US</dc:language>
  <cp:lastModifiedBy>OPS</cp:lastModifiedBy>
  <dcterms:modified xsi:type="dcterms:W3CDTF">2012-10-03T10:33:45Z</dcterms:modified>
  <cp:revision>1931</cp:revision>
  <dc:subject/>
  <dc:title>Diapositiva 1</dc:title>
</cp:coreProperties>
</file>