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50A8-0FFB-4277-8815-FA409C8730BB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BFF3B38-9ECB-4824-9F9B-4DB4DFF5605B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F179-98AC-4499-8198-5E9CFF89425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E7C1-A50E-4A9E-AFFE-828306A59741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0AC7-5DCC-41C8-A234-B4B64C2C23B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A059-6873-4B22-875F-02CA4F39C15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0F22-D901-482C-AA3C-43D94A6829A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25BE-B930-42D9-BDAA-F72D3716939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4177-4C46-4A4B-8323-CFA5AB1D0A9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4C87-A91D-4AC4-9C43-5AFFDE2780B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E6D4-E02E-4CB2-AFDB-135E57681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8842-86D5-44AC-8952-14CC0575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3531-D577-4543-94D8-D2D1A66C5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D098-19B3-41BB-8819-AB21705B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D862-43F0-4971-AF8C-05D58735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5E4F-2563-4507-9455-BC97C617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563F-D574-4503-861F-CC42C65B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E2EB-EABD-4657-9067-EB5C53AB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B1FE-0DFE-4C8B-A557-6989EA58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1D60-032A-41EC-BE56-FDE06801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E718-AA1E-40F0-8581-857386DA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D0A1-56DC-4295-8FC4-98B4AE7C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19A9-4789-47AE-BCAB-FC2A9940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9F1F-CF5E-4DBB-BED3-8DE98FBC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51EE-A3EE-4129-A25C-2DA2F60C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A87A-B95A-4C59-8F28-7271CECF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EDB5-F76C-4A8F-9C0A-F598F24C7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40EC-9354-4575-82FF-6E2F25DB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A8A2-9315-44B4-A76F-FADCB4F7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F3BD-76C4-4E23-921A-D23CB06C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75C6-7FD6-46CE-82E0-AB726AB4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3C06-24AD-4E99-8E36-C64FF818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04BF-028B-4695-833A-7F656342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0E96-E858-4A96-A203-9EDCE414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D744-8491-48E7-9F1A-284D08F10F2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BAC6-D836-46F6-8C78-E16839DF0E9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logoINS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785960" y="1214280"/>
            <a:ext cx="5786280" cy="4345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80880" y="2708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"/>
          <p:cNvSpPr/>
          <p:nvPr/>
        </p:nvSpPr>
        <p:spPr>
          <a:xfrm flipV="1" rot="10800000">
            <a:off x="324000" y="1438560"/>
            <a:ext cx="8353440" cy="46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úmero total de muertes en mujeres de 10 a 54 años (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iverso de muertes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 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 estado c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 municip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 depart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tio de defunción (1- Hospital/clínica, 2- Centro/puesto de salud, 3- Casa/domicilio, 4- Lugar de trabajo, 5- Vía pública, 6- Otro y 9- Sin inform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 variable recibió atención méd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 causa básica de defu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250920" y="746280"/>
            <a:ext cx="8642160" cy="66672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Variables relev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06200" y="1628640"/>
          <a:ext cx="8929800" cy="3934080"/>
        </p:xfrm>
        <a:graphic>
          <a:graphicData uri="http://schemas.openxmlformats.org/drawingml/2006/table">
            <a:tbl>
              <a:tblPr/>
              <a:tblGrid>
                <a:gridCol w="1378080"/>
                <a:gridCol w="1170000"/>
                <a:gridCol w="1171440"/>
                <a:gridCol w="1465560"/>
                <a:gridCol w="1296720"/>
                <a:gridCol w="1173240"/>
                <a:gridCol w="1274760"/>
              </a:tblGrid>
              <a:tr h="1798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uvo   embaraz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leccione el códi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rrespondien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¿El antecedente de embarazo se descartó por historia clínica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En caso de no tener información en certificado de defunció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se descartó el embarazo por historia clínica reporte la ca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leccione el códi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rrespondien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se confirmó embarazo por historia clínica especif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leccione el códi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rrespondien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usa directa de muer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usa anteced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ros estados patológicos importan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Cuando falleció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En las últimas 6 semana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-En los últimos 12 mes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-No estaba embarazad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-Sin informació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S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N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Histerectomí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Ooforectomía bilatera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-Infertilida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-Menopausi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-No había tenido la menarquí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-Otra_________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Estaba embarazada cuando falleció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Tuvo antecedente de embarazo en las últimas 6 semana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-Tuvo antecedente de embarazo en los últimos 12 meses (364 días)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fermedad cerebrovascular isquém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clamps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Rectangle 2"/>
          <p:cNvSpPr/>
          <p:nvPr/>
        </p:nvSpPr>
        <p:spPr>
          <a:xfrm>
            <a:off x="250920" y="747720"/>
            <a:ext cx="8642160" cy="59364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istado de muertes en mujeres de 10 a 54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Unidad Primaria Generadora del Dato UPGD ( revisión diari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Dirección local de salud municipal (revisión seman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Secretaria Departamental o Distrital de Salud. ( verificación y retroalimentación seman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23640" y="817560"/>
            <a:ext cx="8569080" cy="66672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Responsables Módulo 1…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2 Imagen" descr="Modulo 1 inicio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19160" y="44280"/>
            <a:ext cx="89074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34920" y="1703520"/>
            <a:ext cx="9144000" cy="51544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2629080" y="2924280"/>
            <a:ext cx="29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CHOQUE NEUROGÉ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394720" y="3592440"/>
            <a:ext cx="37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HEMORRAGIA INTRACEREB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178720" y="438480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SINDROME HEL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565080" y="5877000"/>
            <a:ext cx="32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HIPERTENSIÓN ASOCI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AL EMBAR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135" name="Oval 11"/>
          <p:cNvSpPr/>
          <p:nvPr/>
        </p:nvSpPr>
        <p:spPr>
          <a:xfrm>
            <a:off x="3059280" y="909720"/>
            <a:ext cx="28872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064360" cy="3816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1258920" y="3284640"/>
            <a:ext cx="1873080" cy="4316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34920" y="1703520"/>
            <a:ext cx="9144000" cy="51544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2197080" y="2924280"/>
            <a:ext cx="50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INSUFICIENCIA RESPIRATORA DEL ADU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2176920" y="4384800"/>
            <a:ext cx="48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TROMBOEMBOLISMO PULMONAR MAS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142" name="Oval 8"/>
          <p:cNvSpPr/>
          <p:nvPr/>
        </p:nvSpPr>
        <p:spPr>
          <a:xfrm>
            <a:off x="539640" y="1197000"/>
            <a:ext cx="28908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9"/>
          <p:cNvSpPr/>
          <p:nvPr/>
        </p:nvSpPr>
        <p:spPr>
          <a:xfrm>
            <a:off x="3059280" y="1197000"/>
            <a:ext cx="28872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5938920" y="1268280"/>
            <a:ext cx="28872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66360" y="3592440"/>
            <a:ext cx="23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EDEMA PULMO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064360" cy="38163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"/>
          <p:cNvSpPr/>
          <p:nvPr/>
        </p:nvSpPr>
        <p:spPr>
          <a:xfrm>
            <a:off x="6012000" y="3213000"/>
            <a:ext cx="1655640" cy="50328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08000" y="85680"/>
            <a:ext cx="885672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Inducción y capacitación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Sistema de Vigilancia Epidemiológica de Mortalidad Materna Basado en la Web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Octubre 3, 4 y 5 de 2012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246240" y="743040"/>
            <a:ext cx="165708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600" spc="-1" strike="noStrike">
                <a:solidFill>
                  <a:srgbClr val="000000"/>
                </a:solidFill>
                <a:latin typeface="Arial Narrow"/>
              </a:rPr>
              <a:t>Ministerio de la Protección Social  </a:t>
            </a:r>
            <a:r>
              <a:rPr b="0" lang="es-CO" sz="600" spc="-1" strike="noStrike">
                <a:solidFill>
                  <a:srgbClr val="000000"/>
                </a:solidFill>
                <a:latin typeface="Arial Narrow"/>
              </a:rPr>
              <a:t>República de Colombi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963720" y="800280"/>
            <a:ext cx="7218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064360" cy="3816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"/>
          <p:cNvSpPr/>
          <p:nvPr/>
        </p:nvSpPr>
        <p:spPr>
          <a:xfrm>
            <a:off x="3851280" y="3213000"/>
            <a:ext cx="1655640" cy="50328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-360" y="1699920"/>
            <a:ext cx="4140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Caso confirm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51640" y="1988640"/>
            <a:ext cx="295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Notificación inmedi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6516720" y="3645000"/>
            <a:ext cx="934920" cy="976320"/>
          </a:xfrm>
          <a:prstGeom prst="downArrow">
            <a:avLst>
              <a:gd name="adj1" fmla="val 50000"/>
              <a:gd name="adj2" fmla="val 26107"/>
            </a:avLst>
          </a:prstGeom>
          <a:solidFill>
            <a:srgbClr val="33cccc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4067280" y="2060640"/>
            <a:ext cx="976320" cy="720720"/>
          </a:xfrm>
          <a:prstGeom prst="rightArrow">
            <a:avLst>
              <a:gd name="adj1" fmla="val 50000"/>
              <a:gd name="adj2" fmla="val 33866"/>
            </a:avLst>
          </a:prstGeom>
          <a:solidFill>
            <a:srgbClr val="33cccc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5940360" y="4797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000000"/>
                </a:solidFill>
                <a:latin typeface="Arial"/>
              </a:rPr>
              <a:t>Modulo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title"/>
          </p:nvPr>
        </p:nvSpPr>
        <p:spPr>
          <a:xfrm>
            <a:off x="250560" y="817560"/>
            <a:ext cx="8713800" cy="66672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Módulo 1…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15640" y="1989000"/>
            <a:ext cx="37796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000000"/>
                </a:solidFill>
                <a:latin typeface="Calibri"/>
              </a:rPr>
              <a:t>Caso dudos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219280" y="1628280"/>
            <a:ext cx="3745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Verificación con Historia Clín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24000" y="4869000"/>
            <a:ext cx="421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No hay ca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muertes muj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10 – 54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4932720" y="5373720"/>
            <a:ext cx="39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Notificación Neg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6443640" y="2924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33cc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4067280" y="2060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cccc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5867280" y="41497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Modulo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3708360" y="5373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cccc">
              <a:alpha val="6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title"/>
          </p:nvPr>
        </p:nvSpPr>
        <p:spPr>
          <a:xfrm>
            <a:off x="323640" y="890280"/>
            <a:ext cx="8569080" cy="52236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Módulo 1…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2916360" y="321300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No es suficiente la H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11 CuadroTexto"/>
          <p:cNvSpPr/>
          <p:nvPr/>
        </p:nvSpPr>
        <p:spPr>
          <a:xfrm>
            <a:off x="4788000" y="471816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ERIFICACION DEL EMBAR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777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3 Título"/>
          <p:cNvSpPr/>
          <p:nvPr/>
        </p:nvSpPr>
        <p:spPr>
          <a:xfrm>
            <a:off x="685800" y="22464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Componente de identificación de cas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Modulo 2 “Notificación de muertes maternas confirmadas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13"/>
          <p:cNvGrpSpPr/>
          <p:nvPr/>
        </p:nvGrpSpPr>
        <p:grpSpPr>
          <a:xfrm>
            <a:off x="755640" y="1341360"/>
            <a:ext cx="7715160" cy="4429080"/>
            <a:chOff x="755640" y="1341360"/>
            <a:chExt cx="7715160" cy="4429080"/>
          </a:xfrm>
        </p:grpSpPr>
        <p:sp>
          <p:nvSpPr>
            <p:cNvPr id="173" name="1 Elipse"/>
            <p:cNvSpPr/>
            <p:nvPr/>
          </p:nvSpPr>
          <p:spPr>
            <a:xfrm>
              <a:off x="3470040" y="1341360"/>
              <a:ext cx="2214720" cy="1285920"/>
            </a:xfrm>
            <a:prstGeom prst="ellipse">
              <a:avLst/>
            </a:prstGeom>
            <a:solidFill>
              <a:srgbClr val="99cc00">
                <a:alpha val="5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Identificación de ca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3 Elipse"/>
            <p:cNvSpPr/>
            <p:nvPr/>
          </p:nvSpPr>
          <p:spPr>
            <a:xfrm>
              <a:off x="1228680" y="4484520"/>
              <a:ext cx="2955960" cy="128592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Recomendaciones y ac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4 Elipse"/>
            <p:cNvSpPr/>
            <p:nvPr/>
          </p:nvSpPr>
          <p:spPr>
            <a:xfrm>
              <a:off x="4973400" y="4473360"/>
              <a:ext cx="2214720" cy="128592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Análisis de hallazg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5 Elipse"/>
            <p:cNvSpPr/>
            <p:nvPr/>
          </p:nvSpPr>
          <p:spPr>
            <a:xfrm>
              <a:off x="6256440" y="2698560"/>
              <a:ext cx="2214360" cy="128592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Recolección de da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6 Elipse"/>
            <p:cNvSpPr/>
            <p:nvPr/>
          </p:nvSpPr>
          <p:spPr>
            <a:xfrm>
              <a:off x="755640" y="2627280"/>
              <a:ext cx="2214360" cy="128592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Evaluación y refinami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9 Conector recto de flecha"/>
            <p:cNvCxnSpPr/>
            <p:nvPr/>
          </p:nvCxnSpPr>
          <p:spPr>
            <a:xfrm>
              <a:off x="5717880" y="2055600"/>
              <a:ext cx="967320" cy="68976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179" name="11 Conector recto de flecha"/>
            <p:cNvCxnSpPr/>
            <p:nvPr/>
          </p:nvCxnSpPr>
          <p:spPr>
            <a:xfrm flipH="1">
              <a:off x="6684480" y="3913200"/>
              <a:ext cx="286560" cy="71496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180" name="16 Conector recto de flecha"/>
            <p:cNvCxnSpPr/>
            <p:nvPr/>
          </p:nvCxnSpPr>
          <p:spPr>
            <a:xfrm flipH="1" flipV="1">
              <a:off x="4183920" y="5270040"/>
              <a:ext cx="786600" cy="216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181" name="20 Conector recto de flecha"/>
            <p:cNvCxnSpPr>
              <a:stCxn id="174" idx="1"/>
              <a:endCxn id="177" idx="4"/>
            </p:cNvCxnSpPr>
            <p:nvPr/>
          </p:nvCxnSpPr>
          <p:spPr>
            <a:xfrm flipV="1">
              <a:off x="1662120" y="3912840"/>
              <a:ext cx="202320" cy="76104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182" name="24 Conector recto de flecha"/>
            <p:cNvCxnSpPr/>
            <p:nvPr/>
          </p:nvCxnSpPr>
          <p:spPr>
            <a:xfrm flipV="1">
              <a:off x="2398680" y="1984320"/>
              <a:ext cx="1000800" cy="64332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2781000"/>
            <a:ext cx="388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ti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Rectangle 1"/>
          <p:cNvGrpSpPr/>
          <p:nvPr/>
        </p:nvGrpSpPr>
        <p:grpSpPr>
          <a:xfrm>
            <a:off x="2859120" y="2724120"/>
            <a:ext cx="6334200" cy="2208240"/>
            <a:chOff x="2859120" y="2724120"/>
            <a:chExt cx="6334200" cy="2208240"/>
          </a:xfrm>
        </p:grpSpPr>
        <p:pic>
          <p:nvPicPr>
            <p:cNvPr id="185" name="Rectangle 1" descr=""/>
            <p:cNvPicPr/>
            <p:nvPr/>
          </p:nvPicPr>
          <p:blipFill>
            <a:blip r:embed="rId1"/>
            <a:stretch/>
          </p:blipFill>
          <p:spPr>
            <a:xfrm>
              <a:off x="2859120" y="2724120"/>
              <a:ext cx="6334200" cy="22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3040200" y="2909520"/>
              <a:ext cx="59799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otificar los casos de muerte materna confirmados desde la unidad primaria generadora del dato (UPGD) hasta el nivel nacional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Rectangle 2"/>
          <p:cNvSpPr/>
          <p:nvPr/>
        </p:nvSpPr>
        <p:spPr>
          <a:xfrm>
            <a:off x="250920" y="907920"/>
            <a:ext cx="8713800" cy="64944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ódulo 2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092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nent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1"/>
          <p:cNvSpPr/>
          <p:nvPr/>
        </p:nvSpPr>
        <p:spPr>
          <a:xfrm>
            <a:off x="324000" y="3291480"/>
            <a:ext cx="85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tificación inmediata e Individual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e realiza ante la confirmación de un caso de muerte materna.  El propósito de esta clase de notificación es tomar las medidas de intervención de manera inmediat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250920" y="981000"/>
            <a:ext cx="8642160" cy="64764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ódulo 2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8064720" cy="38163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1330200" y="3933720"/>
            <a:ext cx="1873440" cy="432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144360" y="808200"/>
            <a:ext cx="8891640" cy="46008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ódulo 2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395280" y="970920"/>
            <a:ext cx="828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 Narrow"/>
              </a:rPr>
              <a:t>Entidades y Organizaciones participantes del proyec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Ministerio de Salud y Protecc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Instituto Nacional de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Secretarías Departamentales de Salud de Antioquia, Caldas, V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Secretarías Municipales de Salud de Medellín, Manizales y C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Secretaría Distrital de Salud de Bogotá, D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Organización Mundial de la Salud, Departamento de MPS/CAH  Ginebra, Su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Organización Panamericana de la Salud/ Oficina de la Representación en Colom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Centro Latinoamericano de Perinatología-CLAP, Organización Panamericana de la Salud Montevideo, Urugu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Centro NACER, Salud Sexual y reproductiva - Universidad de Antioqu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Centros para el Control y Prevención de Enfermedades (CD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 Narrow"/>
              </a:rPr>
              <a:t>Agencia auspiciadora del proyec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Agencia de los Estados Unidos para el Desarrollo Internacional (USAID), Oficina América Latina y el Caribe, Washington D.C., Estados Unidos de Norteam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466560" y="144360"/>
            <a:ext cx="8209080" cy="908280"/>
          </a:xfrm>
          <a:prstGeom prst="rect">
            <a:avLst/>
          </a:prstGeom>
          <a:ln w="9360">
            <a:solidFill>
              <a:srgbClr val="008080"/>
            </a:solidFill>
            <a:miter/>
          </a:ln>
        </p:spPr>
      </p:pic>
      <p:pic>
        <p:nvPicPr>
          <p:cNvPr id="196" name="Picture 7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8280360" cy="5257800"/>
          </a:xfrm>
          <a:prstGeom prst="rect">
            <a:avLst/>
          </a:prstGeom>
          <a:ln w="93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250920" y="917640"/>
            <a:ext cx="8642160" cy="63972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ódulo 2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0" y="1773360"/>
            <a:ext cx="8907480" cy="50846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2"/>
          <p:cNvSpPr/>
          <p:nvPr/>
        </p:nvSpPr>
        <p:spPr>
          <a:xfrm>
            <a:off x="250920" y="890640"/>
            <a:ext cx="8624880" cy="59364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ódulo 2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0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1"/>
          <p:cNvSpPr/>
          <p:nvPr/>
        </p:nvSpPr>
        <p:spPr>
          <a:xfrm>
            <a:off x="250920" y="1353600"/>
            <a:ext cx="8569080" cy="43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uerte materna confirm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r e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r estado ci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r et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r régimen de afil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r grupo poblacional (población desplazada o indíge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r municipio de resid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r departamento de resid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r municipio de ocurr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r departamento de ocurr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itio de defunción (1- Hospital/clínica, 2- Centro/puesto de salud, 3- Casa/domicilio, 4- Lugar de trabajo, 5- Vía pública, 6- Otro y 9- Sin informació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r variable recibió atención méd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r embarazo actual, en los últimos 6 meses o en los últimos 12 me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atos del informante que atendió el caso y/o que notificó el ca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250920" y="890640"/>
            <a:ext cx="8624880" cy="59364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Variables relev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3 Título"/>
          <p:cNvSpPr/>
          <p:nvPr/>
        </p:nvSpPr>
        <p:spPr>
          <a:xfrm>
            <a:off x="685800" y="22464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Componente de identificación de cas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Sub modulo “Notificación por otras fuentes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6836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Notificación de casos en donde el sitio de defunción es diferente a una institución de salud y no hay un certificado de defun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Para casos que son enviados a medicina legal y la elaboración del certificado de defunción cursa otros tiemp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Otras situaciones en donde no se cuenta con certificado de defunción oportunam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Contiene la variables de la actual ficha de notifica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323640" y="836280"/>
            <a:ext cx="8569080" cy="57636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Otras fuentes…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388360" cy="522936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"/>
          <p:cNvSpPr/>
          <p:nvPr/>
        </p:nvSpPr>
        <p:spPr>
          <a:xfrm>
            <a:off x="324000" y="747720"/>
            <a:ext cx="8569080" cy="59364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Otras fuentes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3 Título"/>
          <p:cNvSpPr/>
          <p:nvPr/>
        </p:nvSpPr>
        <p:spPr>
          <a:xfrm>
            <a:off x="685800" y="22464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Componente de identificación de cas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Modulo 3 “Verificación de embarazo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4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064360" cy="38163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5"/>
          <p:cNvSpPr/>
          <p:nvPr/>
        </p:nvSpPr>
        <p:spPr>
          <a:xfrm>
            <a:off x="6012000" y="3430440"/>
            <a:ext cx="1655640" cy="50328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250920" y="963720"/>
            <a:ext cx="8624880" cy="59364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ódulo 3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ti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15 CuadroTexto"/>
          <p:cNvGrpSpPr/>
          <p:nvPr/>
        </p:nvGrpSpPr>
        <p:grpSpPr>
          <a:xfrm>
            <a:off x="371520" y="2657520"/>
            <a:ext cx="8467560" cy="2073240"/>
            <a:chOff x="371520" y="2657520"/>
            <a:chExt cx="8467560" cy="2073240"/>
          </a:xfrm>
        </p:grpSpPr>
        <p:pic>
          <p:nvPicPr>
            <p:cNvPr id="215" name="15 CuadroTexto" descr=""/>
            <p:cNvPicPr/>
            <p:nvPr/>
          </p:nvPicPr>
          <p:blipFill>
            <a:blip r:embed="rId1"/>
            <a:stretch/>
          </p:blipFill>
          <p:spPr>
            <a:xfrm>
              <a:off x="371520" y="2657520"/>
              <a:ext cx="8467560" cy="20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11280" y="2781360"/>
              <a:ext cx="7993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600" spc="-1" strike="noStrike">
                  <a:solidFill>
                    <a:srgbClr val="ffffff"/>
                  </a:solidFill>
                  <a:latin typeface="Calibri"/>
                </a:rPr>
                <a:t>Confirmar  o descartar las muertes maternas que se encuentran dudosas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3 Título"/>
          <p:cNvSpPr/>
          <p:nvPr/>
        </p:nvSpPr>
        <p:spPr>
          <a:xfrm>
            <a:off x="685800" y="22464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Componente de identificación de cas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Modulo 1 “Reporte de Muertes en Mujeres de 10 a 54 años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ponent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37159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"/>
          <p:cNvSpPr/>
          <p:nvPr/>
        </p:nvSpPr>
        <p:spPr>
          <a:xfrm>
            <a:off x="684360" y="2563920"/>
            <a:ext cx="7848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Módulo 3 se aplicará en aquellos casos de muerte en los cuales no se pudo establecer el antecedente de embarazo en la revisión de historia clínica y fueron clasificados como casos dudosos en el módulo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firmación o descarte de casos dudosos: la secretaría municipal o departamental si fuere el caso (Unidad notificadora), tiene 15 días calendario para descartar o confirmar los casos dudo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250920" y="890640"/>
            <a:ext cx="8785080" cy="66672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ódulo 3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179280" y="961920"/>
            <a:ext cx="8713800" cy="73836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ódulo 3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-36360" y="1916280"/>
            <a:ext cx="918036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Imagen 1" descr=""/>
          <p:cNvPicPr/>
          <p:nvPr/>
        </p:nvPicPr>
        <p:blipFill>
          <a:blip r:embed="rId1"/>
          <a:stretch/>
        </p:blipFill>
        <p:spPr>
          <a:xfrm>
            <a:off x="-36360" y="0"/>
            <a:ext cx="784836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03280" y="0"/>
            <a:ext cx="5940360" cy="112536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Flujograma  Modulo 3 </a:t>
            </a:r>
            <a:br>
              <a:rPr sz="2400"/>
            </a:b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     Confirmación o descarte de antecedentes       </a:t>
            </a: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obstétr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ves para el diligenciami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1"/>
          <p:cNvSpPr/>
          <p:nvPr/>
        </p:nvSpPr>
        <p:spPr>
          <a:xfrm>
            <a:off x="395280" y="1943640"/>
            <a:ext cx="835344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 coordinador o encargado municipal o referente de la unidad notificadora deberá ir hasta la casa de los familiares cercanos de la mujer fallecida, con cita prev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SV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 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 descarta la muerte materna se finalizará l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ntrevi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 caso de confirmarse la muerte materna se debe diligenciar el módulo 4A (entrevista familiar) y en los casos en que aplique el 4 B (autopsia verbal), en caso de no ser posible en ese momento se debe concertar una nueva fecha para la investiga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información recolectada en la entrevista se deberá migrar a la platafor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te módulo deberá ser diligenciado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áximo en los  15 días siguientes a la notificación de la muer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5"/>
          <p:cNvGrpSpPr/>
          <p:nvPr/>
        </p:nvGrpSpPr>
        <p:grpSpPr>
          <a:xfrm>
            <a:off x="755640" y="1341360"/>
            <a:ext cx="7715160" cy="4429080"/>
            <a:chOff x="755640" y="1341360"/>
            <a:chExt cx="7715160" cy="4429080"/>
          </a:xfrm>
        </p:grpSpPr>
        <p:sp>
          <p:nvSpPr>
            <p:cNvPr id="95" name="1 Elipse"/>
            <p:cNvSpPr/>
            <p:nvPr/>
          </p:nvSpPr>
          <p:spPr>
            <a:xfrm>
              <a:off x="3470040" y="1341360"/>
              <a:ext cx="2214720" cy="1285920"/>
            </a:xfrm>
            <a:prstGeom prst="ellipse">
              <a:avLst/>
            </a:prstGeom>
            <a:solidFill>
              <a:srgbClr val="99cc00">
                <a:alpha val="5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Identificación de ca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3 Elipse"/>
            <p:cNvSpPr/>
            <p:nvPr/>
          </p:nvSpPr>
          <p:spPr>
            <a:xfrm>
              <a:off x="1228680" y="4484520"/>
              <a:ext cx="2955960" cy="128592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Recomendaciones y ac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4 Elipse"/>
            <p:cNvSpPr/>
            <p:nvPr/>
          </p:nvSpPr>
          <p:spPr>
            <a:xfrm>
              <a:off x="4973400" y="4473360"/>
              <a:ext cx="2214720" cy="128592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Análisis de hallazg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5 Elipse"/>
            <p:cNvSpPr/>
            <p:nvPr/>
          </p:nvSpPr>
          <p:spPr>
            <a:xfrm>
              <a:off x="6256440" y="2698560"/>
              <a:ext cx="2214360" cy="128592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Recolección de da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6 Elipse"/>
            <p:cNvSpPr/>
            <p:nvPr/>
          </p:nvSpPr>
          <p:spPr>
            <a:xfrm>
              <a:off x="755640" y="2627280"/>
              <a:ext cx="2214360" cy="128592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Evaluación y refinami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" name="9 Conector recto de flecha"/>
            <p:cNvCxnSpPr/>
            <p:nvPr/>
          </p:nvCxnSpPr>
          <p:spPr>
            <a:xfrm>
              <a:off x="5717880" y="2055600"/>
              <a:ext cx="967320" cy="68976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101" name="11 Conector recto de flecha"/>
            <p:cNvCxnSpPr/>
            <p:nvPr/>
          </p:nvCxnSpPr>
          <p:spPr>
            <a:xfrm flipH="1">
              <a:off x="6684480" y="3913200"/>
              <a:ext cx="286560" cy="71496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102" name="16 Conector recto de flecha"/>
            <p:cNvCxnSpPr/>
            <p:nvPr/>
          </p:nvCxnSpPr>
          <p:spPr>
            <a:xfrm flipH="1" flipV="1">
              <a:off x="4183920" y="5270040"/>
              <a:ext cx="786600" cy="216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103" name="20 Conector recto de flecha"/>
            <p:cNvCxnSpPr>
              <a:stCxn id="96" idx="1"/>
              <a:endCxn id="99" idx="4"/>
            </p:cNvCxnSpPr>
            <p:nvPr/>
          </p:nvCxnSpPr>
          <p:spPr>
            <a:xfrm flipV="1">
              <a:off x="1662120" y="3912840"/>
              <a:ext cx="202320" cy="76104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104" name="24 Conector recto de flecha"/>
            <p:cNvCxnSpPr/>
            <p:nvPr/>
          </p:nvCxnSpPr>
          <p:spPr>
            <a:xfrm flipV="1">
              <a:off x="2398680" y="1984320"/>
              <a:ext cx="1000800" cy="64332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8642160" cy="57636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Módulo 1…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2781000"/>
            <a:ext cx="2449440" cy="6476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bjetiv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3203640" y="2708280"/>
            <a:ext cx="976320" cy="792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cc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Aumentar la sensibilidad y oportunidad del sistema,  identificando las muertes maternas, dentro del grupo de muertes de mujeres de 10 a 54 añ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3644640"/>
            <a:ext cx="4038480" cy="1439640"/>
          </a:xfrm>
          <a:prstGeom prst="rect">
            <a:avLst/>
          </a:prstGeom>
          <a:solidFill>
            <a:srgbClr val="00ccff">
              <a:alpha val="22000"/>
            </a:srgbClr>
          </a:solidFill>
          <a:ln w="9360">
            <a:solidFill>
              <a:srgbClr val="000080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Identificación de TODAS las  muertes de mujeres de 10 a 54 añ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1640" y="1566360"/>
            <a:ext cx="4465800" cy="4526280"/>
          </a:xfrm>
          <a:prstGeom prst="rect">
            <a:avLst/>
          </a:prstGeom>
          <a:solidFill>
            <a:srgbClr val="800080">
              <a:alpha val="1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Identificación de muertes maternas que no hayan podido captarse, debido al no diligenciamiento del antecedente de embarazo dentro del certificado de defunción ó por ser una muerte extra hospitalaria ó aquellas que no fueron reportadas por ser tardías (post puerperi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AutoShape 12"/>
          <p:cNvSpPr/>
          <p:nvPr/>
        </p:nvSpPr>
        <p:spPr>
          <a:xfrm rot="19800600">
            <a:off x="834840" y="-19080"/>
            <a:ext cx="4518000" cy="2643120"/>
          </a:xfrm>
          <a:custGeom>
            <a:avLst/>
            <a:gdLst>
              <a:gd name="textAreaLeft" fmla="*/ 957600 w 4518000"/>
              <a:gd name="textAreaRight" fmla="*/ 3158640 w 4518000"/>
              <a:gd name="textAreaTop" fmla="*/ 353880 h 2643120"/>
              <a:gd name="textAreaBottom" fmla="*/ 2289240 h 2643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56" hR="21600" stAng="10800000" swAng="5400000"/>
                <a:lnTo>
                  <a:pt x="10523" y="0"/>
                </a:lnTo>
                <a:arcTo wR="9156" hR="21600" stAng="-5400000" swAng="3644677"/>
                <a:lnTo>
                  <a:pt x="21352" y="16610"/>
                </a:lnTo>
                <a:lnTo>
                  <a:pt x="18996" y="21600"/>
                </a:lnTo>
                <a:lnTo>
                  <a:pt x="16143" y="16610"/>
                </a:lnTo>
                <a:lnTo>
                  <a:pt x="18064" y="16610"/>
                </a:lnTo>
                <a:arcTo wR="9156" hR="21600" stAng="-1755323" swAng="-3535627"/>
                <a:lnTo>
                  <a:pt x="9840" y="60"/>
                </a:lnTo>
                <a:arcTo wR="9156" hR="21600" stAng="-5509050" swAng="-5290950"/>
                <a:close/>
              </a:path>
              <a:path fill="darkenLess" w="21600" h="21600">
                <a:moveTo>
                  <a:pt x="0" y="21600"/>
                </a:moveTo>
                <a:arcTo wR="9156" hR="21600" stAng="10800000" swAng="5400000"/>
                <a:lnTo>
                  <a:pt x="9156" y="0"/>
                </a:lnTo>
                <a:arcTo wR="9156" hR="21600" stAng="-5400000" swAng="109050"/>
                <a:lnTo>
                  <a:pt x="9840" y="60"/>
                </a:lnTo>
                <a:arcTo wR="9156" hR="21600" stAng="-5509050" swAng="-5290950"/>
                <a:close/>
              </a:path>
            </a:pathLst>
          </a:custGeom>
          <a:solidFill>
            <a:srgbClr val="800080">
              <a:alpha val="13000"/>
            </a:srgbClr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250920" y="692280"/>
            <a:ext cx="8642160" cy="56664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ódulo 1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57200" y="106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Fuente de información prim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468360" y="2205000"/>
            <a:ext cx="82296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73200" y="2421000"/>
            <a:ext cx="82296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15 Rectángulo"/>
          <p:cNvSpPr/>
          <p:nvPr/>
        </p:nvSpPr>
        <p:spPr>
          <a:xfrm>
            <a:off x="539640" y="2492280"/>
            <a:ext cx="806472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ertificado de defunción ya sea en físico o dentro del Sistema de Registro Único de Afiliación  RU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250920" y="692280"/>
            <a:ext cx="8642160" cy="59508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ódulo 1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395280" y="3500280"/>
            <a:ext cx="8280360" cy="22338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7:31:15Z</dcterms:created>
  <dc:creator>k</dc:creator>
  <dc:description/>
  <dc:language>en-US</dc:language>
  <cp:lastModifiedBy>OPS</cp:lastModifiedBy>
  <dcterms:modified xsi:type="dcterms:W3CDTF">2012-10-03T10:46:34Z</dcterms:modified>
  <cp:revision>1942</cp:revision>
  <dc:subject/>
  <dc:title>Diapositiva 1</dc:title>
</cp:coreProperties>
</file>