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2BE0-173E-47CD-8E45-FEB2ABC167DE}"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CF2B2B3-9628-42CF-9F56-B09408F8692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144FC-E1CB-41FB-93A7-59A793D27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9A89D-3C15-4743-BB43-2F6E631F2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7155A-CB07-4D1B-9768-B90B34A09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E6485-C576-49B7-B230-343E5D4E2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631E-D16A-4D7C-BCD9-307783AB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F69D-80F8-4F7F-A76C-E88AF80F4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4D63-4880-482D-A5DD-A24BD3835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0334B-4C78-4153-9AD6-C2F03A85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98B1-E400-4006-91EA-7C7CB0E2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2A66-FCB9-4430-B931-859E760B3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4C9F-2D28-4D30-BC36-D322FE6DB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F47BF-83A3-4EBD-88E2-ADC6CF989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4A5E-A734-477B-906D-DC73D51850D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aplicacionespruebas.ins.gov.co/SVEMMBW/" TargetMode="External"/><Relationship Id="rId2" Type="http://schemas.openxmlformats.org/officeDocument/2006/relationships/hyperlink" Target="http://aplicacionesproduccion.ins.gov.co/SVEMMBW"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5 Imagen" descr="Imagen pantalla inicio SVEMMBW.bmp"/>
          <p:cNvPicPr/>
          <p:nvPr/>
        </p:nvPicPr>
        <p:blipFill>
          <a:blip r:embed="rId1"/>
          <a:stretch/>
        </p:blipFill>
        <p:spPr>
          <a:xfrm>
            <a:off x="179280" y="0"/>
            <a:ext cx="8713800" cy="626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JHON GOOT\Desktop\SVEMM_Doc\presentaciontallerOPS\DgramGeneral.jpg"/>
          <p:cNvPicPr/>
          <p:nvPr/>
        </p:nvPicPr>
        <p:blipFill>
          <a:blip r:embed="rId1"/>
          <a:stretch/>
        </p:blipFill>
        <p:spPr>
          <a:xfrm>
            <a:off x="395280" y="836640"/>
            <a:ext cx="8497800" cy="540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JHON GOOT\Desktop\SVEMM_Doc\presentaciontallerOPS\WebReporte.jpg"/>
          <p:cNvPicPr/>
          <p:nvPr/>
        </p:nvPicPr>
        <p:blipFill>
          <a:blip r:embed="rId1"/>
          <a:stretch/>
        </p:blipFill>
        <p:spPr>
          <a:xfrm>
            <a:off x="250920" y="836640"/>
            <a:ext cx="8642160" cy="538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JHON GOOT\Desktop\SVEMM_Doc\presentaciontallerOPS\WebRecoleccion.jpg"/>
          <p:cNvPicPr/>
          <p:nvPr/>
        </p:nvPicPr>
        <p:blipFill>
          <a:blip r:embed="rId1"/>
          <a:stretch/>
        </p:blipFill>
        <p:spPr>
          <a:xfrm>
            <a:off x="250920" y="765000"/>
            <a:ext cx="8545320" cy="543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C:\Users\JHON GOOT\Desktop\SVEMM_Doc\presentaciontallerOPS\WebAnalisis.jpg"/>
          <p:cNvPicPr/>
          <p:nvPr/>
        </p:nvPicPr>
        <p:blipFill>
          <a:blip r:embed="rId1"/>
          <a:stretch/>
        </p:blipFill>
        <p:spPr>
          <a:xfrm>
            <a:off x="179280" y="907920"/>
            <a:ext cx="8709120" cy="532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JHON GOOT\Desktop\SVEMM_Doc\presentaciontallerOPS\LocalReporte.jpg"/>
          <p:cNvPicPr/>
          <p:nvPr/>
        </p:nvPicPr>
        <p:blipFill>
          <a:blip r:embed="rId1"/>
          <a:stretch/>
        </p:blipFill>
        <p:spPr>
          <a:xfrm>
            <a:off x="338040" y="907920"/>
            <a:ext cx="8555040" cy="532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C:\Users\JHON GOOT\Desktop\SVEMM_Doc\presentaciontallerOPS\LocalRecol.jpg"/>
          <p:cNvPicPr/>
          <p:nvPr/>
        </p:nvPicPr>
        <p:blipFill>
          <a:blip r:embed="rId1"/>
          <a:stretch/>
        </p:blipFill>
        <p:spPr>
          <a:xfrm>
            <a:off x="179280" y="836640"/>
            <a:ext cx="8713800" cy="53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C:\Users\JHON GOOT\Desktop\SVEMM_Doc\presentaciontallerOPS\LocalAnalisis.jpg"/>
          <p:cNvPicPr/>
          <p:nvPr/>
        </p:nvPicPr>
        <p:blipFill>
          <a:blip r:embed="rId1"/>
          <a:stretch/>
        </p:blipFill>
        <p:spPr>
          <a:xfrm>
            <a:off x="250920" y="981000"/>
            <a:ext cx="86421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C:\Users\JHON GOOT\Desktop\SVEMM_Doc\presentaciontallerOPS\FisicoIdentificacion.jpg"/>
          <p:cNvPicPr/>
          <p:nvPr/>
        </p:nvPicPr>
        <p:blipFill>
          <a:blip r:embed="rId1"/>
          <a:stretch/>
        </p:blipFill>
        <p:spPr>
          <a:xfrm>
            <a:off x="179280" y="836640"/>
            <a:ext cx="8713800" cy="540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C:\Users\JHON GOOT\Desktop\SVEMM_Doc\presentaciontallerOPS\FisicoRecoleccion.jpg"/>
          <p:cNvPicPr/>
          <p:nvPr/>
        </p:nvPicPr>
        <p:blipFill>
          <a:blip r:embed="rId1"/>
          <a:stretch/>
        </p:blipFill>
        <p:spPr>
          <a:xfrm>
            <a:off x="250920" y="836640"/>
            <a:ext cx="8643960" cy="540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JHON GOOT\Desktop\SVEMM_Doc\presentaciontallerOPS\FisicoAnalisis.jpg"/>
          <p:cNvPicPr/>
          <p:nvPr/>
        </p:nvPicPr>
        <p:blipFill>
          <a:blip r:embed="rId1"/>
          <a:stretch/>
        </p:blipFill>
        <p:spPr>
          <a:xfrm>
            <a:off x="250920" y="836640"/>
            <a:ext cx="864216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250920" y="1052640"/>
            <a:ext cx="8642160" cy="64764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Ingreso al Sistema </a:t>
            </a:r>
            <a:endParaRPr b="0" lang="en-US" sz="2800" spc="-1" strike="noStrike">
              <a:solidFill>
                <a:srgbClr val="000000"/>
              </a:solidFill>
              <a:latin typeface="Arial"/>
            </a:endParaRPr>
          </a:p>
        </p:txBody>
      </p:sp>
      <p:sp>
        <p:nvSpPr>
          <p:cNvPr id="74" name="3 CuadroTexto"/>
          <p:cNvSpPr/>
          <p:nvPr/>
        </p:nvSpPr>
        <p:spPr>
          <a:xfrm>
            <a:off x="539640" y="2060640"/>
            <a:ext cx="813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mbiente de prueb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u="sng">
                <a:solidFill>
                  <a:srgbClr val="0000ff"/>
                </a:solidFill>
                <a:uFillTx/>
                <a:latin typeface="Arial"/>
                <a:hlinkClick r:id="rId1"/>
              </a:rPr>
              <a:t>http://aplicacionespruebas.ins.gov.co/SVEMMBW/</a:t>
            </a:r>
            <a:br>
              <a:rPr sz="1800"/>
            </a:b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mbiente de produc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ff"/>
                </a:solidFill>
                <a:uFillTx/>
                <a:latin typeface="Arial"/>
                <a:hlinkClick r:id="rId2"/>
              </a:rPr>
              <a:t>http://aplicacionesproduccion.ins.gov.co/SVEMMBW</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Componente informático del SVEMMBW y ambientes de trabajo</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250920" y="836640"/>
            <a:ext cx="8642160" cy="100800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Prerrequisitos </a:t>
            </a:r>
            <a:endParaRPr b="0" lang="en-US" sz="2800" spc="-1" strike="noStrike">
              <a:solidFill>
                <a:srgbClr val="000000"/>
              </a:solidFill>
              <a:latin typeface="Arial"/>
            </a:endParaRPr>
          </a:p>
        </p:txBody>
      </p:sp>
      <p:sp>
        <p:nvSpPr>
          <p:cNvPr id="54" name="6 Rectángulo"/>
          <p:cNvSpPr/>
          <p:nvPr/>
        </p:nvSpPr>
        <p:spPr>
          <a:xfrm>
            <a:off x="250920" y="3645000"/>
            <a:ext cx="8642160" cy="110016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Internet Explorer Versión 6.0. En adelante y Mozilla  Firefox versión 2 en adelante, se ha probado en otros navegadores como Opera, Safari y Netscape respectivamente. </a:t>
            </a:r>
            <a:endParaRPr b="0" lang="en-US" sz="1800" spc="-1" strike="noStrike">
              <a:solidFill>
                <a:srgbClr val="000000"/>
              </a:solidFill>
              <a:latin typeface="Arial"/>
            </a:endParaRPr>
          </a:p>
        </p:txBody>
      </p:sp>
      <p:sp>
        <p:nvSpPr>
          <p:cNvPr id="55" name="7 Rectángulo"/>
          <p:cNvSpPr/>
          <p:nvPr/>
        </p:nvSpPr>
        <p:spPr>
          <a:xfrm>
            <a:off x="250920" y="2212920"/>
            <a:ext cx="8642160" cy="110016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istema operativo Windows XP o superior. ( Puede funcionar  en sistemas operativos Windows 98, pero se tendrían inconvenientes con el navegador de internet que normalmente se usa  con este SO,  por lo tanto no se recomienda su uso). </a:t>
            </a:r>
            <a:endParaRPr b="0" lang="en-US" sz="1800" spc="-1" strike="noStrike">
              <a:solidFill>
                <a:srgbClr val="000000"/>
              </a:solidFill>
              <a:latin typeface="Arial"/>
            </a:endParaRPr>
          </a:p>
        </p:txBody>
      </p:sp>
      <p:sp>
        <p:nvSpPr>
          <p:cNvPr id="56" name="8 Rectángulo"/>
          <p:cNvSpPr/>
          <p:nvPr/>
        </p:nvSpPr>
        <p:spPr>
          <a:xfrm>
            <a:off x="250920" y="4941720"/>
            <a:ext cx="8642160" cy="1098720"/>
          </a:xfrm>
          <a:prstGeom prst="rect">
            <a:avLst/>
          </a:prstGeom>
          <a:solidFill>
            <a:srgbClr val="cbcbcb">
              <a:alpha val="90000"/>
            </a:srgbClr>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quipo de computo con memoria  RAM 250 MB, CPU Pentium  4,1.6 GHz, Disco duro  40G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250920" y="907920"/>
            <a:ext cx="84643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857160" y="928800"/>
            <a:ext cx="7643880" cy="50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642960" y="1000080"/>
            <a:ext cx="8001000" cy="507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250920" y="907920"/>
            <a:ext cx="8642160" cy="505080"/>
          </a:xfrm>
          <a:prstGeom prst="rect">
            <a:avLst/>
          </a:prstGeom>
          <a:solidFill>
            <a:srgbClr val="e6b9b8"/>
          </a:solidFill>
          <a:ln w="9360">
            <a:solidFill>
              <a:srgbClr val="cc33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Roles de administrador  SVEMMBW</a:t>
            </a:r>
            <a:endParaRPr b="0" lang="en-US" sz="2800" spc="-1" strike="noStrike">
              <a:solidFill>
                <a:srgbClr val="000000"/>
              </a:solidFill>
              <a:latin typeface="Arial"/>
            </a:endParaRPr>
          </a:p>
        </p:txBody>
      </p:sp>
      <p:graphicFrame>
        <p:nvGraphicFramePr>
          <p:cNvPr id="61" name=""/>
          <p:cNvGraphicFramePr/>
          <p:nvPr/>
        </p:nvGraphicFramePr>
        <p:xfrm>
          <a:off x="250920" y="1700280"/>
          <a:ext cx="8640720" cy="4545000"/>
        </p:xfrm>
        <a:graphic>
          <a:graphicData uri="http://schemas.openxmlformats.org/drawingml/2006/table">
            <a:tbl>
              <a:tblPr/>
              <a:tblGrid>
                <a:gridCol w="2047680"/>
                <a:gridCol w="2394000"/>
                <a:gridCol w="1805040"/>
                <a:gridCol w="2394000"/>
              </a:tblGrid>
              <a:tr h="182880">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Nombre del Rol</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Módul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Descripción</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2640" rIns="626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Arial"/>
                          <a:ea typeface="Times New Roman"/>
                        </a:rPr>
                        <a:t>Opcion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49360">
                <a:tc rowSpan="2">
                  <a:txBody>
                    <a:bodyPr lIns="62640" rIns="6264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Súp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Nación</a:t>
                      </a:r>
                      <a:endParaRPr b="0" lang="en-US" sz="12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a contar con los privilegios totales sobre el aplicativo SVEMMBW</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ste usuario pertenece al nivel nacional</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69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Municipio, Departamento y Paí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936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Departament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a contar con los privilegios totales sobre el aplicativo SVEMMBW  para cada 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Municipio de su departament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792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Municip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contar con los privilegios totales sobre el aplicativo SVEMMBW  para cada 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461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por UPGD del municip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547920">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dor UPGD</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Institución de Salu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dministración </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El usuario que va contar con los privilegios totales sobre el aplicativo SVEMMBW  para cada UPG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clav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Actualizar estado Usu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Modificar Usuario</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46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Reportes</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2640" rIns="626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ea typeface="Times New Roman"/>
                        </a:rPr>
                        <a:t>Consulta de la UPGD</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3:45Z</dcterms:modified>
  <cp:revision>1931</cp:revision>
  <dc:subject/>
  <dc:title>Diapositiva 1</dc:title>
</cp:coreProperties>
</file>