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15D3B-30C9-4466-8A68-FCA1E47BAFE5}" type="slidenum">
              <a:rPr b="0" lang="es-C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666D902-DA09-49EF-BA27-4C451BA59995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43E80E-E8EF-4F6F-9CF6-5F9D222E8FC4}" type="slidenum">
              <a:rPr b="0" lang="es-C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"/>
          <p:cNvSpPr/>
          <p:nvPr/>
        </p:nvSpPr>
        <p:spPr>
          <a:xfrm>
            <a:off x="114444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685800" y="4341600"/>
            <a:ext cx="5484960" cy="420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F3A77-5E8B-47B8-BDAF-C44BBEC02A3B}" type="slidenum">
              <a:rPr b="0" lang="es-C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2288-8C09-46A4-961A-5BD49AB64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4A5F-61EB-4597-8E67-36734D70E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37CB-7946-46A5-B10C-7C4EF464B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84BD-4C68-43E7-8A8B-2395976B4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D051-C1F7-4C9C-9143-E683FCF87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EA82-0D46-465B-8A5B-271BC6493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789C-2D14-41AB-BD3A-A84BC75C3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AA7A-8612-41E5-A9DC-1A4F0DC74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3B60-CDD6-4ED7-B562-EEDBA036C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F3AF-E46A-47CE-B431-0796BB929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E4FC-9A56-42D1-90A6-C5630A09E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AB32-B3D8-4163-86A4-F780B7140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54F68-EF46-465F-A012-F8756A0C8743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logoINS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1785960" y="1214280"/>
            <a:ext cx="5786280" cy="4345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600" spc="-1" strike="noStrike">
                <a:solidFill>
                  <a:srgbClr val="000000"/>
                </a:solidFill>
                <a:latin typeface="Calibri"/>
              </a:rPr>
              <a:t>Desarrollo unidad de análisis municipal, Departamental o Distrita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Calibri"/>
              </a:rPr>
              <a:t>Alistamien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Calibri"/>
              </a:rPr>
              <a:t>Convocatoria acto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Verificación de la realización de análisis por cada una de las instituciones involucradas en la atención de la mujer fallecida de acuerdo a sus competencia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sarrollo de la unidad de análisis para casos individua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Calibri"/>
              </a:rPr>
              <a:t>Análisis de determinantes sociales relevantes por cada una de las categorías ordenadoras del SVEMMBW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000000"/>
                </a:solidFill>
                <a:latin typeface="Calibri"/>
              </a:rPr>
              <a:t>Actores convocad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IPS que brindaron atención a la mujer fallecida durante su control prenatal, atenciones por urgencia, hospitalizaciones y  atención durante el evento final que la llevo a la muert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Calibri"/>
              </a:rPr>
              <a:t>Coordinador médico o coordinador del área de gineco-obstetric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Calibri"/>
              </a:rPr>
              <a:t>Coordinador de epidemiologí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Calibri"/>
              </a:rPr>
              <a:t>Auditor de calida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Calibri"/>
              </a:rPr>
              <a:t>Personal técnico o asistencial si lo consideran pertinente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000000"/>
                </a:solidFill>
                <a:latin typeface="Calibri"/>
              </a:rPr>
              <a:t>Actores convocad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Empresa Administradora de Planes de Beneficio (EAPB) a la cual estaba afiliada la mujer fallecida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Representante de la aseguradora con poder decisori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Representante de garantía de la calid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000000"/>
                </a:solidFill>
                <a:latin typeface="Calibri"/>
              </a:rPr>
              <a:t>Actores convocad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0000"/>
                </a:solidFill>
                <a:uFillTx/>
                <a:latin typeface="Calibri"/>
              </a:rPr>
              <a:t>Secretaría de Salud Departamental o Distrital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Representante de la dirección de salud públic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Representante de la dirección de aseguramiento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Representante de la dirección de desarrollo de servicio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Responsable de vigilancia epidemiológica del departamento o distrito  y/o el referente de salud sexual y reproductiva departamental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sponsable de estadísticas vital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Coordinador de vigilancia en salud pública departamental o distrita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000000"/>
                </a:solidFill>
                <a:latin typeface="Calibri"/>
              </a:rPr>
              <a:t>Actores convocad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ecretaria de Salud Municipa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Secretario municipal de salu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Responsable de la vigilancia en salud pública del municipio, o en todo caso un representante de la Dirección Local de Salud del municipio de residencia de la mujer fallecid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Referente de salud sexual y reproductiva municipal en aquellos municipios donde exist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esarrollo de la unidad de análisis para casos individuale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4000" y="2331720"/>
            <a:ext cx="8229600" cy="282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La unidad de análisis  será coordinada por el representante de la dirección de salud pública municipal, departamental, distrital (o si es nacional el INS) ó en su defecto por el responsable de vigilancia epidemiológica o de salud sexual y reproductiva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esarrollo de la unidad de análisis para casos individuales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24000" y="2331720"/>
            <a:ext cx="8229600" cy="282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La unidad de análisis  será coordinada por el representante de la dirección de salud pública municipal, departamental, distrital (o si es nacional el INS) ó en su defecto por el responsable de vigilancia epidemiológica o de salud sexual y reproductiva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64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esarrollo de la unidad de análisis para casos individual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112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esentación de los asistent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Explicación de la dinámica de la reunió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Presentación del resumen del caso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Contrastación de los hallazgos no coincidentes entre el módulo 5 y el resumen de la historia clínica en físico. Lo anterior con el fin de cualificar a los equipos institucionales y municipales de salu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964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esarrollo de la unidad de análisis para casos individua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resentación de las aclaraciones a las que haya lugar por parte de los representantes de las instituciones que intervinieron en el proceso de atenció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resentación del análisis de cada una de las instituciones asistentes con sus conclusiones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Socialización del módulo 6 parte B diligenciado de manera preliminar para  el análisis de determinantes sociales relevantes por cada una de  las categorías ordenadoras del SVEMMBW (mujer, familia, comunidad y sistema de salud).  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Calibri"/>
              </a:rPr>
              <a:t>Éste podrá ser ajustado o modificado por el  comité si se considera necesario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esarrollo de la unidad de análisis para casos individua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Discusión y formulación de conclusiones: la unidad de análisis deberá llegar a acuerdos acerca de los factores contribuyentes, la causa básica de muerte, la evitabilidad de la misma y establecer si  la muerte fue directa, indirecta o tardí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Concertación  de los factores o situaciones a interveni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Definición de las acciones a desarrollar (Qué)  y los  actores que ejecutaran estas acciones (Quien) y diligenciamiento del módulo 7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ectura del acta con los compromiso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gradecimientos y cierre de la reunión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125360"/>
            <a:ext cx="8136000" cy="24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Narrow"/>
              </a:rPr>
              <a:t>Inducción y capacitación 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Sistema de Vigilancia Epidemiológica de Mortalidad Materna Basado en la Web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410920" y="3789360"/>
            <a:ext cx="452124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Narrow"/>
              </a:rPr>
              <a:t>Octubre 3, 4 y 5 de 2012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000000"/>
                </a:solidFill>
                <a:latin typeface="Calibri"/>
              </a:rPr>
              <a:t>Análisis agrupad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s-CO" sz="2800" spc="-1" strike="noStrike">
                <a:solidFill>
                  <a:srgbClr val="000000"/>
                </a:solidFill>
                <a:latin typeface="Calibri"/>
              </a:rPr>
              <a:t>El análisis de los casos agrupados tiene un alcance diferente en cuanto busca proporcionar información que sirva para la toma de decisiones que desde el plano institucional o gubernamental del orden local, departamental o nacional, incidan no solo en los determinantes intermedios de los casos particulares, sino atiendan también determinantes estructurales a través del diseño de programas, estrategias o políticas para la disminución de mortalidad materna como evento en salud pública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000000"/>
                </a:solidFill>
                <a:latin typeface="Calibri"/>
              </a:rPr>
              <a:t>Preguntas cla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¿Cuáles son los determinantes sociales en salud que afectaron negativamente en la mortalidad materna de la región foco del análisis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¿De qué manera intervenirlos para disminuir su incidencia en este evento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"/>
          <p:cNvPicPr/>
          <p:nvPr/>
        </p:nvPicPr>
        <p:blipFill>
          <a:blip r:embed="rId1"/>
          <a:stretch/>
        </p:blipFill>
        <p:spPr>
          <a:xfrm>
            <a:off x="0" y="981000"/>
            <a:ext cx="914400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1"/>
          <p:cNvSpPr/>
          <p:nvPr/>
        </p:nvSpPr>
        <p:spPr>
          <a:xfrm>
            <a:off x="539640" y="404640"/>
            <a:ext cx="8229600" cy="57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1700" spc="-1" strike="noStrike">
                <a:solidFill>
                  <a:srgbClr val="cc0000"/>
                </a:solidFill>
                <a:latin typeface="Calibri"/>
              </a:rPr>
              <a:t>GRACIAS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1763640" y="2421000"/>
            <a:ext cx="5281560" cy="270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1"/>
          <p:cNvSpPr/>
          <p:nvPr/>
        </p:nvSpPr>
        <p:spPr>
          <a:xfrm>
            <a:off x="395280" y="970920"/>
            <a:ext cx="82803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 Narrow"/>
              </a:rPr>
              <a:t>Entidades y Organizaciones participantes del proyec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 Narrow"/>
              </a:rPr>
              <a:t>Ministerio de Salud y Protección So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 Narrow"/>
              </a:rPr>
              <a:t>Instituto Nacional de Sal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 Narrow"/>
              </a:rPr>
              <a:t>Secretarías Departamentales de Salud de Antioquia, Caldas, Va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 Narrow"/>
              </a:rPr>
              <a:t>Secretarías Municipales de Salud de Medellín, Manizales y C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 Narrow"/>
              </a:rPr>
              <a:t>Secretaría Distrital de Salud de Bogotá, D.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 Narrow"/>
              </a:rPr>
              <a:t>Organización Mundial de la Salud, Departamento de MPS/CAH  Ginebra, Sui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 Narrow"/>
              </a:rPr>
              <a:t>Organización Panamericana de la Salud/ Oficina de la Representación en Colomb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 Narrow"/>
              </a:rPr>
              <a:t>Centro Latinoamericano de Perinatología-CLAP, Organización Panamericana de la Salud Montevideo, Urugu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 Narrow"/>
              </a:rPr>
              <a:t>Centro NACER, Salud Sexual y reproductiva - Universidad de Antioqu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 Narrow"/>
              </a:rPr>
              <a:t>Centros para el Control y Prevención de Enfermedades (CD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 Narrow"/>
              </a:rPr>
              <a:t>Agencia auspiciadora del proyec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 Narrow"/>
              </a:rPr>
              <a:t>Agencia de los Estados Unidos para el Desarrollo Internacional (USAID), Oficina América Latina y el Caribe, Washington D.C., Estados Unidos de Norteamé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3 Título"/>
          <p:cNvSpPr/>
          <p:nvPr/>
        </p:nvSpPr>
        <p:spPr>
          <a:xfrm>
            <a:off x="685800" y="2246400"/>
            <a:ext cx="7772400" cy="21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s-ES_tradnl" sz="4000" spc="-1" strike="noStrike">
                <a:solidFill>
                  <a:srgbClr val="000000"/>
                </a:solidFill>
                <a:latin typeface="Arial Narrow"/>
              </a:rPr>
              <a:t>Comités de análisis de casos de muerte mater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000" spc="-1" strike="noStrike">
                <a:solidFill>
                  <a:srgbClr val="000000"/>
                </a:solidFill>
                <a:latin typeface="Calibri"/>
              </a:rPr>
              <a:t>Niveles de análisis, muertes materna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95280" y="233172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000" spc="-1" strike="noStrike">
                <a:solidFill>
                  <a:srgbClr val="000000"/>
                </a:solidFill>
                <a:latin typeface="Calibri"/>
              </a:rPr>
              <a:t>INDIVIDUA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000" spc="-1" strike="noStrike">
                <a:solidFill>
                  <a:srgbClr val="000000"/>
                </a:solidFill>
                <a:latin typeface="Calibri"/>
              </a:rPr>
              <a:t>AGRUPAD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64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000000"/>
                </a:solidFill>
                <a:latin typeface="Calibri"/>
              </a:rPr>
              <a:t>Análisis individu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256536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El propósito de este análisis es determinar las situaciones que llevaron a la  muerte materna, reflexionando sobre cada situación frente a la explicación del caso, la evitabilidad del mismo y las acciones de carácter preventivo y de control a realiza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000000"/>
                </a:solidFill>
                <a:latin typeface="Calibri"/>
              </a:rPr>
              <a:t>Análisis agrupad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964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Corresponde al análisis de varios casos de mortalidad materna buscando identificar patrones comunes de orden territorial,  socio económico, cultural y asociados al sistema de salud que expliquen el conjunto de muertes maternas analizadas.  Incluye un análisis diferenciado entre regiones, condiciones socioeconómicas, culturales, accesibilidad y desarrollo del sistema de salud que marquen desventajas sociales y por tanto resultados inequitativos en salud, ante las cuales las instancias del orden gubernamental en coordinación con el sector privado, tomen decisiones diferenciadas que respondan a la eliminación o atenúen el impacto de los determinantes sobre las muertes materna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179280" y="1066680"/>
            <a:ext cx="8498160" cy="509904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6"/>
          <p:cNvSpPr/>
          <p:nvPr/>
        </p:nvSpPr>
        <p:spPr>
          <a:xfrm>
            <a:off x="2270520" y="6230160"/>
            <a:ext cx="279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Fuente: SVEMMBW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000000"/>
                </a:solidFill>
                <a:latin typeface="Calibri"/>
              </a:rPr>
              <a:t>Unidades de análi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Definició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La unidad de análisis es el espacio en el cual se hace la revisión de la información disponible en  relación a la muerte materna,  se identifican los factores o situaciones relacionadas con la misma y  se determina su causa y evitabilidad  con el fin de  formular las acciones tendientes a evitar que la situación o situaciones evidenciadas se repita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4T17:31:15Z</dcterms:created>
  <dc:creator>k</dc:creator>
  <dc:description/>
  <dc:language>en-US</dc:language>
  <cp:lastModifiedBy>OPS</cp:lastModifiedBy>
  <dcterms:modified xsi:type="dcterms:W3CDTF">2012-10-03T10:41:43Z</dcterms:modified>
  <cp:revision>1946</cp:revision>
  <dc:subject/>
  <dc:title>Diapositiva 1</dc:title>
</cp:coreProperties>
</file>