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EB02-E8F3-4E49-9C09-F7E11486CD65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CA4D29-52F1-4DB4-8B6D-FAF759A21A2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CB3D5-BB11-4BC9-9306-AC4CF9619ADB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1600"/>
            <a:ext cx="5484960" cy="42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D6C2-88C9-4153-A481-FA6A7ABBBE20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6C74-CDDB-4335-9001-7A2E449E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FEF-8A4A-45CF-B4A7-E29744B7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F3ED-1DCF-438C-B503-90686096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0B02-FBE2-4E2E-B723-0D82D17F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35A-FD65-4848-BAE1-D9175621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6F18-A17B-4CEA-9735-F622190B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D7CF-CAA2-46E5-9FA9-DAA092D6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9EF8-0F26-4077-AB4F-8584EAFE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273-527B-4B40-AABB-46E7E647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60E0-B333-4815-8135-24152358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EEBF-69D7-42CD-8B6E-392CA353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CB03-50B8-4209-9314-E06648E3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FE42-1D18-43C9-9A06-4EF25B3825A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logoINS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785960" y="1214280"/>
            <a:ext cx="5786280" cy="434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Calibri"/>
              </a:rPr>
              <a:t>Desarrollo unidad de análisis municipal, Departamental o Distrit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Alistami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Convocatoria act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Verificación de la realización de análisis por cada una de las instituciones involucradas en la atención de la mujer fallecida de acuerdo a sus competenci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arrollo de la unidad de análisis para casos individ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Análisis de determinantes sociales relevantes por cada una de las categorías ordenadoras del SVEMMBW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Actores convoc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PS que brindaron atención a la mujer fallecida durante su control prenatal, atenciones por urgencia, hospitalizaciones y  atención durante el evento final que la llevo a la muer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Coordinador médico o coordinador del área de gineco-obstetri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Coordinador de epidemiologí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Auditor de calid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Personal técnico o asistencial si lo consideran pertine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Actores convoc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Empresa Administradora de Planes de Beneficio (EAPB) a la cual estaba afiliada la mujer fallecid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presentante de la aseguradora con poder deciso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presentante de garantía de la cal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Actores convoc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Secretaría de Salud Departamental o Distrital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presentante de la dirección de salud públ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presentante de la dirección de aseguramien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presentante de la dirección de desarrollo de servici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sponsable de vigilancia epidemiológica del departamento o distrito  y/o el referente de salud sexual y reproductiva departamental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sable de estadísticas vit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ordinador de vigilancia en salud pública departamental o distrit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Actores convoc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ecretaria de Salud Municip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cretario municipal de salu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sponsable de la vigilancia en salud pública del municipio, o en todo caso un representante de la Dirección Local de Salud del municipio de residencia de la mujer falleci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ferente de salud sexual y reproductiva municipal en aquellos municipios donde exi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sarrollo de la unidad de análisis para casos individua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2331720"/>
            <a:ext cx="822960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unidad de análisis  será coordinada por el representante de la dirección de salud pública municipal, departamental, distrital (o si es nacional el INS) ó en su defecto por el responsable de vigilancia epidemiológica o de salud sexual y reproductiv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sarrollo de la unidad de análisis para casos individuales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2331720"/>
            <a:ext cx="822960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unidad de análisis  será coordinada por el representante de la dirección de salud pública municipal, departamental, distrital (o si es nacional el INS) ó en su defecto por el responsable de vigilancia epidemiológica o de salud sexual y reproductiv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sarrollo de la unidad de análisis para casos individu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tación de los asisten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xplicación de la dinámica de la reunió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esentación del resumen del cas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trastación de los hallazgos no coincidentes entre el módulo 5 y el resumen de la historia clínica en físico. Lo anterior con el fin de cualificar a los equipos institucionales y municipales de sal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arrollo de la unidad de análisis para casos individ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sentación de las aclaraciones a las que haya lugar por parte de los representantes de las instituciones que intervinieron en el proceso de aten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sentación del análisis de cada una de las instituciones asistentes con sus conclusione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ocialización del módulo 6 parte B diligenciado de manera preliminar para  el análisis de determinantes sociales relevantes por cada una de  las categorías ordenadoras del SVEMMBW (mujer, familia, comunidad y sistema de salud).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alibri"/>
              </a:rPr>
              <a:t>Éste podrá ser ajustado o modificado por el  comité si se considera necesari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arrollo de la unidad de análisis para casos individu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cusión y formulación de conclusiones: la unidad de análisis deberá llegar a acuerdos acerca de los factores contribuyentes, la causa básica de muerte, la evitabilidad de la misma y establecer si  la muerte fue directa, indirecta o tardí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certación  de los factores o situaciones a interven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finición de las acciones a desarrollar (Qué)  y los  actores que ejecutaran estas acciones (Quien) y diligenciamiento del módulo 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ctura del acta con los compromis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gradecimientos y cierre de la reunió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13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Inducción y capacitación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Sistema de Vigilancia Epidemiológica de Mortalidad Materna Basado en la Web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10920" y="3789360"/>
            <a:ext cx="45212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Octubre 3, 4 y 5 de 20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Análisis agrup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El análisis de los casos agrupados tiene un alcance diferente en cuanto busca proporcionar información que sirva para la toma de decisiones que desde el plano institucional o gubernamental del orden local, departamental o nacional, incidan no solo en los determinantes intermedios de los casos particulares, sino atiendan también determinantes estructurales a través del diseño de programas, estrategias o políticas para la disminución de mortalidad materna como evento en salud públic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Preguntas cl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¿Cuáles son los determinantes sociales en salud que afectaron negativamente en la mortalidad materna de la región foco del análisi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¿De qué manera intervenirlos para disminuir su incidencia en este evento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39640" y="404640"/>
            <a:ext cx="82296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1700" spc="-1" strike="noStrike">
                <a:solidFill>
                  <a:srgbClr val="cc0000"/>
                </a:solidFill>
                <a:latin typeface="Calibri"/>
              </a:rPr>
              <a:t>GRACIA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281560" cy="27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95280" y="97092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 Narrow"/>
              </a:rPr>
              <a:t>Entidades y Organizaciones participantes del 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Ministerio de Salud y Protec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Instituto Nacional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s Departamentales de Salud de Antioquia, Caldas, V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s Municipales de Salud de Medellín, Manizales y C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 Distrital de Salud de Bogotá,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Organización Mundial de la Salud, Departamento de MPS/CAH  Ginebra, Su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Organización Panamericana de la Salud/ Oficina de la Representación en Colo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 Latinoamericano de Perinatología-CLAP, Organización Panamericana de la Salud Montevideo, 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 NACER, Salud Sexual y reproductiva - Universidad de Antioqu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s para el Control y Prevención de Enfermedades (CD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 Narrow"/>
              </a:rPr>
              <a:t>Agencia auspiciadora del 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Agencia de los Estados Unidos para el Desarrollo Internacional (USAID), Oficina América Latina y el Caribe, Washington D.C., Estados Unidos de Nortea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3 Título"/>
          <p:cNvSpPr/>
          <p:nvPr/>
        </p:nvSpPr>
        <p:spPr>
          <a:xfrm>
            <a:off x="685800" y="2246400"/>
            <a:ext cx="77724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Arial Narrow"/>
              </a:rPr>
              <a:t>Comités de análisis de casos de muerte mate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Niveles de análisis, muertes matern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233172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INDIVIDU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AGRUPA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Análisis individ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El propósito de este análisis es determinar las situaciones que llevaron a la  muerte materna, reflexionando sobre cada situación frente a la explicación del caso, la evitabilidad del mismo y las acciones de carácter preventivo y de control a realiza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Análisis agrup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Corresponde al análisis de varios casos de mortalidad materna buscando identificar patrones comunes de orden territorial,  socio económico, cultural y asociados al sistema de salud que expliquen el conjunto de muertes maternas analizadas.  Incluye un análisis diferenciado entre regiones, condiciones socioeconómicas, culturales, accesibilidad y desarrollo del sistema de salud que marquen desventajas sociales y por tanto resultados inequitativos en salud, ante las cuales las instancias del orden gubernamental en coordinación con el sector privado, tomen decisiones diferenciadas que respondan a la eliminación o atenúen el impacto de los determinantes sobre las muertes matern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79280" y="1066680"/>
            <a:ext cx="8498160" cy="50990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2270520" y="623016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Fuente: SVEMMBW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Unidades de anál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efinició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La unidad de análisis es el espacio en el cual se hace la revisión de la información disponible en  relación a la muerte materna,  se identifican los factores o situaciones relacionadas con la misma y  se determina su causa y evitabilidad  con el fin de  formular las acciones tendientes a evitar que la situación o situaciones evidenciadas se repita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7:31:15Z</dcterms:created>
  <dc:creator>k</dc:creator>
  <dc:description/>
  <dc:language>en-US</dc:language>
  <cp:lastModifiedBy>OPS</cp:lastModifiedBy>
  <dcterms:modified xsi:type="dcterms:W3CDTF">2012-10-03T10:41:43Z</dcterms:modified>
  <cp:revision>1946</cp:revision>
  <dc:subject/>
  <dc:title>Diapositiva 1</dc:title>
</cp:coreProperties>
</file>