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8323-72C1-4DAB-AA78-43739347F8DE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BDDE6D-3D20-406E-9DC9-B77D9797D06C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1C13-214F-4365-8055-2E1BC18C131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A9F7-C1F7-41B2-A195-977BF710041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2CD4-A311-4BC4-A729-FD465F6B8AE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6E0-0178-4A32-8523-401E5D8A7F4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B247-1B5D-4F7C-A8B4-30671E20804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D1A-C050-40D0-A7F5-89EF7F1E011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F77B-D6AF-4BFE-A18E-D4A5E8980EC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BC4-B97C-496A-B53F-44A5482F498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BB6-C2C3-44CE-B4E1-A75EB314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980-439E-4F8E-A0A8-8B2944D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101-B2FA-438B-AF08-A4AFE3AE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38A-C4DA-46A1-A951-68AE4889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FECF-1FF2-4CE8-910F-41AABACC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89A4-737E-489A-B083-8134858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00A6-77BD-4C4E-88F1-D8FD23E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4F75-6A59-4B0B-B4E5-EFBCBCA4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878-0875-46F0-B486-B096D67D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CB75-6F16-441D-86E3-518C865C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C550-1E99-4B2C-92D7-4313852F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8F4-A4C1-429B-944C-F96BEC7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B28D-41BC-4052-BB44-F80A11B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E46-BEBA-4EE5-B3A2-375CFE5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4D8D-43AC-4EDE-829D-ABD285BE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2BC3-5F07-41D2-98F9-96C3392A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D0EF-A6DE-4D5F-9E42-74E633C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34F-7394-41A3-9B4C-AEB7678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6AF-B244-4A53-9677-6D096EB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582-2C12-4958-897B-6F66D7A6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A54-C227-4802-B67C-117C4EF0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FC0-EF86-4047-B9C8-FF727B6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7FE-15BE-413F-AF7B-38B970A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B53-09E8-48BD-AD32-6C5AAFB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AC1-D1C3-4F18-9782-09C8A24C4C3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719-664B-4D1C-9AFC-8D8735201FD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4 Imagen" descr="Entrevista inicia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50920" y="4428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4 Imagen" descr="Entrevista mujer.bmp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0920" y="4428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4 Imagen" descr="Entrevista familia.bmp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3 Imagen" descr="Entrevista comunidad.bmp"/>
          <p:cNvPicPr/>
          <p:nvPr/>
        </p:nvPicPr>
        <p:blipFill>
          <a:blip r:embed="rId1"/>
          <a:srcRect l="0" t="0" r="0" b="49822"/>
          <a:stretch/>
        </p:blipFill>
        <p:spPr>
          <a:xfrm>
            <a:off x="442800" y="1773360"/>
            <a:ext cx="82584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4 Imagen" descr="Entrevista Ant preconcepcionales.bmp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Entrevista datos embarazo relacionado con la muerte.bmp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4 Imagen" descr="entrevista señales de alerta.bmp"/>
          <p:cNvPicPr/>
          <p:nvPr/>
        </p:nvPicPr>
        <p:blipFill>
          <a:blip r:embed="rId1"/>
          <a:stretch/>
        </p:blipFill>
        <p:spPr>
          <a:xfrm>
            <a:off x="423720" y="1576440"/>
            <a:ext cx="829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trevista famili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4 Imagen" descr="Entrevista datos mortalidad.bmp"/>
          <p:cNvPicPr/>
          <p:nvPr/>
        </p:nvPicPr>
        <p:blipFill>
          <a:blip r:embed="rId1"/>
          <a:stretch/>
        </p:blipFill>
        <p:spPr>
          <a:xfrm>
            <a:off x="179280" y="1258920"/>
            <a:ext cx="8713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re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 4B “Autopsia verbal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5"/>
          <p:cNvGrpSpPr/>
          <p:nvPr/>
        </p:nvGrpSpPr>
        <p:grpSpPr>
          <a:xfrm>
            <a:off x="755640" y="1984320"/>
            <a:ext cx="6432480" cy="3786120"/>
            <a:chOff x="755640" y="1984320"/>
            <a:chExt cx="6432480" cy="3786120"/>
          </a:xfrm>
        </p:grpSpPr>
        <p:sp>
          <p:nvSpPr>
            <p:cNvPr id="137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1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2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3" name="20 Conector recto de flecha"/>
            <p:cNvCxnSpPr>
              <a:stCxn id="137" idx="1"/>
              <a:endCxn id="139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44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145" name="20 Elipse"/>
          <p:cNvSpPr/>
          <p:nvPr/>
        </p:nvSpPr>
        <p:spPr>
          <a:xfrm>
            <a:off x="6443640" y="2719440"/>
            <a:ext cx="221472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93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91636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24360" y="2420640"/>
            <a:ext cx="4859280" cy="370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Identificar las muertes maternas que ocurrieron en la comunidad y reconstruir la historia y el camino recorrido por la mujer fallecida, incluyendo la morbilidad y las complicaciones que enfrentó hasta su fallecimi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4038480" cy="1440000"/>
          </a:xfrm>
          <a:prstGeom prst="rect">
            <a:avLst/>
          </a:prstGeom>
          <a:solidFill>
            <a:srgbClr val="31859c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Autopsia 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1640" y="2933280"/>
            <a:ext cx="4465800" cy="30877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á en el 100% de las muertes maternas domiciliari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aplicará tanto el modulo 4A “Entrevista familiar” como el modulo 4B “Autopsia Verbal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12"/>
          <p:cNvSpPr/>
          <p:nvPr/>
        </p:nvSpPr>
        <p:spPr>
          <a:xfrm rot="21042000">
            <a:off x="1927080" y="1749240"/>
            <a:ext cx="4518000" cy="1536480"/>
          </a:xfrm>
          <a:custGeom>
            <a:avLst/>
            <a:gdLst>
              <a:gd name="textAreaLeft" fmla="*/ 1029600 w 4518000"/>
              <a:gd name="textAreaRight" fmla="*/ 3254760 w 4518000"/>
              <a:gd name="textAreaTop" fmla="*/ 205560 h 1536480"/>
              <a:gd name="textAreaBottom" fmla="*/ 1330920 h 153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45" hR="21600" stAng="10800000" swAng="5400000"/>
                <a:lnTo>
                  <a:pt x="10639" y="0"/>
                </a:lnTo>
                <a:arcTo wR="9845" hR="21600" stAng="-5400000" swAng="3748898"/>
                <a:lnTo>
                  <a:pt x="21334" y="16610"/>
                </a:lnTo>
                <a:lnTo>
                  <a:pt x="20086" y="21600"/>
                </a:lnTo>
                <a:lnTo>
                  <a:pt x="18306" y="16610"/>
                </a:lnTo>
                <a:lnTo>
                  <a:pt x="19423" y="16610"/>
                </a:lnTo>
                <a:arcTo wR="9845" hR="21600" stAng="-1651102" swAng="-3685669"/>
                <a:lnTo>
                  <a:pt x="10242" y="18"/>
                </a:lnTo>
                <a:arcTo wR="9845" hR="21600" stAng="-5463229" swAng="-5336771"/>
                <a:close/>
              </a:path>
              <a:path fill="darkenLess" w="21600" h="21600">
                <a:moveTo>
                  <a:pt x="0" y="21600"/>
                </a:moveTo>
                <a:arcTo wR="9845" hR="21600" stAng="10800000" swAng="5400000"/>
                <a:lnTo>
                  <a:pt x="9845" y="0"/>
                </a:lnTo>
                <a:arcTo wR="9845" hR="21600" stAng="-5400000" swAng="63229"/>
                <a:lnTo>
                  <a:pt x="10242" y="18"/>
                </a:lnTo>
                <a:arcTo wR="9845" hR="21600" stAng="-5463229" swAng="-5336771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50920" y="836640"/>
            <a:ext cx="8642160" cy="927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6836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5720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73200" y="2421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5 Rectángulo"/>
          <p:cNvSpPr/>
          <p:nvPr/>
        </p:nvSpPr>
        <p:spPr>
          <a:xfrm>
            <a:off x="468360" y="3730680"/>
            <a:ext cx="806436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sonas familiarizadas con los eventos que condujeron al deceso: familiares, vecinos y/o parteras tradicionales</a:t>
            </a:r>
            <a:r>
              <a:rPr b="1" i="1" lang="es-CO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79280" y="981000"/>
            <a:ext cx="8642520" cy="998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2708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"/>
          <p:cNvSpPr/>
          <p:nvPr/>
        </p:nvSpPr>
        <p:spPr>
          <a:xfrm flipV="1" rot="10800000">
            <a:off x="324000" y="2747880"/>
            <a:ext cx="8353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enfermedad 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del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bable muerte materna por suic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cierre de la autopsia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2 Imagen" descr="Autopsia pagina inicia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79280" y="0"/>
            <a:ext cx="864252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 Imagen" descr="Autopsia enfermedad atencion.bmp"/>
          <p:cNvPicPr/>
          <p:nvPr/>
        </p:nvPicPr>
        <p:blipFill>
          <a:blip r:embed="rId1"/>
          <a:stretch/>
        </p:blipFill>
        <p:spPr>
          <a:xfrm>
            <a:off x="250920" y="1268280"/>
            <a:ext cx="8497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3 Imagen" descr="Autopsia caracterizacion caso.bmp"/>
          <p:cNvPicPr/>
          <p:nvPr/>
        </p:nvPicPr>
        <p:blipFill>
          <a:blip r:embed="rId1"/>
          <a:srcRect l="0" t="0" r="0" b="42835"/>
          <a:stretch/>
        </p:blipFill>
        <p:spPr>
          <a:xfrm>
            <a:off x="324000" y="1720800"/>
            <a:ext cx="8305560" cy="2787840"/>
          </a:xfrm>
          <a:prstGeom prst="rect">
            <a:avLst/>
          </a:prstGeom>
          <a:ln w="0">
            <a:noFill/>
          </a:ln>
        </p:spPr>
      </p:pic>
      <p:sp>
        <p:nvSpPr>
          <p:cNvPr id="168" name="3 CuadroTexto"/>
          <p:cNvSpPr/>
          <p:nvPr/>
        </p:nvSpPr>
        <p:spPr>
          <a:xfrm>
            <a:off x="179280" y="3213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uno de los aspectos mas importantes en la autopsia verbal, de preferencia diligenciar las mismas palabras usadas por el entrevistado, sin inferencias ni percepciones del entrevistador a no ser que se expresen en paréntesi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50920" y="44280"/>
            <a:ext cx="8642160" cy="114300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B Autopsia Verb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3 Imagen" descr="Autopsia probable muerte suicidio.bmp"/>
          <p:cNvPicPr/>
          <p:nvPr/>
        </p:nvPicPr>
        <p:blipFill>
          <a:blip r:embed="rId1"/>
          <a:stretch/>
        </p:blipFill>
        <p:spPr>
          <a:xfrm>
            <a:off x="419040" y="1289160"/>
            <a:ext cx="8305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353440" cy="29797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Unidad Notificador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irección local de salud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cretaria Departamental o Distrital de Sal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1070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sponsables Módulo 4A y 4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395280" y="1741320"/>
            <a:ext cx="835344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responsable de la vigilancia municipal y/o departamental acompañado de otro funcionario de salud que pueda apoyarlo (psicólogo, trabajador social, etc.), procederán a realizar la entrevista familiar y la autopsia verbal (módulos 4 a y 4 b). Se debe resaltar que estos módulos no son una encuesta y por este motivo, su aplicación debe ser realizada por personal capacitado y entrenado, si es necesario los profesionales responsables de la vigilancia departamental deben apoyar y acompañar su realiz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"/>
          <p:cNvSpPr/>
          <p:nvPr/>
        </p:nvSpPr>
        <p:spPr>
          <a:xfrm>
            <a:off x="250920" y="2502360"/>
            <a:ext cx="8353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vez recolectada la información, se digitarán los módulos en el aplicativo Web o en el local según sea el caso. Esto hará una actualización completa de la información y generará las respectivas alertas de seguimiento a nivel departamental y nacion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250920" y="1627920"/>
            <a:ext cx="8748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aplicativo local se generará un archivo plano que deberá ser sincronizado con el aplicativo Web. Esto se realizará utilizando la op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INCRONIZAR MÓDU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que se encuentra en el menú  de administr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Arial"/>
              </a:rPr>
              <a:t>En el escenario físico, la información diligenciada manualmente en los módulos será remitida al nivel superior, con el fin, de que sea digitada en alguno de los aplicativos, según sea el cas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recolección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 4A “Entrevista familiar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5"/>
          <p:cNvGrpSpPr/>
          <p:nvPr/>
        </p:nvGrpSpPr>
        <p:grpSpPr>
          <a:xfrm>
            <a:off x="755640" y="1984320"/>
            <a:ext cx="6432480" cy="3786120"/>
            <a:chOff x="755640" y="1984320"/>
            <a:chExt cx="6432480" cy="3786120"/>
          </a:xfrm>
        </p:grpSpPr>
        <p:sp>
          <p:nvSpPr>
            <p:cNvPr id="95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99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0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20 Conector recto de flecha"/>
            <p:cNvCxnSpPr>
              <a:stCxn id="95" idx="1"/>
              <a:endCxn id="97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2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103" name="20 Elipse"/>
          <p:cNvSpPr/>
          <p:nvPr/>
        </p:nvSpPr>
        <p:spPr>
          <a:xfrm>
            <a:off x="6443640" y="2719440"/>
            <a:ext cx="2214720" cy="1285920"/>
          </a:xfrm>
          <a:prstGeom prst="ellipse">
            <a:avLst/>
          </a:prstGeom>
          <a:solidFill>
            <a:srgbClr val="99cc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Recolección de d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21 Elipse"/>
          <p:cNvSpPr/>
          <p:nvPr/>
        </p:nvSpPr>
        <p:spPr>
          <a:xfrm>
            <a:off x="3564000" y="1052640"/>
            <a:ext cx="2214360" cy="1285920"/>
          </a:xfrm>
          <a:prstGeom prst="ellipse">
            <a:avLst/>
          </a:prstGeom>
          <a:solidFill>
            <a:srgbClr val="ffcc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Identificación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291636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24360" y="2031840"/>
            <a:ext cx="4859280" cy="4421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xplorar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situación personal, condiciones de vida familiar y del entorno social, historial reproductivo y eventos previos de salud que pudieron estar relacionados con la causa de muerte organizados en las categorías mujer, familia, comunidad y sector salu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500280"/>
            <a:ext cx="4038480" cy="1440000"/>
          </a:xfrm>
          <a:prstGeom prst="rect">
            <a:avLst/>
          </a:prstGeom>
          <a:solidFill>
            <a:srgbClr val="31859c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Entrevista famili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77840" y="2565000"/>
            <a:ext cx="4465800" cy="315756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á en el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de los casos de muerte mater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firmados en el módulo 1, notificados en el módulo 2 y los casos confirmados que fueron filtrados por el módulo 3, como muerte mater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2"/>
          <p:cNvSpPr/>
          <p:nvPr/>
        </p:nvSpPr>
        <p:spPr>
          <a:xfrm rot="20825400">
            <a:off x="1954080" y="1961640"/>
            <a:ext cx="4515120" cy="979560"/>
          </a:xfrm>
          <a:custGeom>
            <a:avLst/>
            <a:gdLst>
              <a:gd name="textAreaLeft" fmla="*/ 1056960 w 4515120"/>
              <a:gd name="textAreaRight" fmla="*/ 3277440 w 4515120"/>
              <a:gd name="textAreaTop" fmla="*/ 131040 h 979560"/>
              <a:gd name="textAreaBottom" fmla="*/ 8485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15" hR="21600" stAng="10800000" swAng="5400000"/>
                <a:lnTo>
                  <a:pt x="10621" y="0"/>
                </a:lnTo>
                <a:arcTo wR="10115" hR="21600" stAng="-5400000" swAng="3865409"/>
                <a:lnTo>
                  <a:pt x="21355" y="16876"/>
                </a:lnTo>
                <a:lnTo>
                  <a:pt x="20483" y="21600"/>
                </a:lnTo>
                <a:lnTo>
                  <a:pt x="19121" y="16876"/>
                </a:lnTo>
                <a:lnTo>
                  <a:pt x="19985" y="16876"/>
                </a:lnTo>
                <a:arcTo wR="10115" hR="21600" stAng="-1534591" swAng="-3825132"/>
                <a:lnTo>
                  <a:pt x="10368" y="7"/>
                </a:lnTo>
                <a:arcTo wR="10115" hR="21600" stAng="-5440277" swAng="-5359723"/>
                <a:close/>
              </a:path>
              <a:path fill="darkenLess" w="21600" h="21600">
                <a:moveTo>
                  <a:pt x="0" y="21600"/>
                </a:moveTo>
                <a:arcTo wR="10115" hR="21600" stAng="10800000" swAng="5400000"/>
                <a:lnTo>
                  <a:pt x="10115" y="0"/>
                </a:lnTo>
                <a:arcTo wR="10115" hR="21600" stAng="-5400000" swAng="40277"/>
                <a:lnTo>
                  <a:pt x="10368" y="7"/>
                </a:lnTo>
                <a:arcTo wR="10115" hR="21600" stAng="-5440277" swAng="-5359723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846000"/>
            <a:ext cx="8642160" cy="998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95280" y="206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720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73200" y="2421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468360" y="3645000"/>
            <a:ext cx="806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Familiares o personas más cercanas a la mujer falleci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 persona que brinda la información, en lo posible debe ser may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920" y="981000"/>
            <a:ext cx="8642160" cy="935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4A Entrevista Fam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 flipV="1" rot="10800000">
            <a:off x="324000" y="20754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j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ecedentes preconcepcionales y prenat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l embarazo relacionado con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ñales de alerta de enfermedad durante el embarazo relacionado con la mue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 la mortalidad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50920" y="112536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4:21Z</dcterms:modified>
  <cp:revision>1977</cp:revision>
  <dc:subject/>
  <dc:title>Diapositiva 1</dc:title>
</cp:coreProperties>
</file>