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7289-8098-41A5-A0CC-61A80E05A1E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46AC17-642E-4924-B18B-8C7A1A4F144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FE74-B3B9-4ECE-B213-5614B3FC651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8D2-CA5A-4C7D-A081-0E8F85A3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47A-3593-4FDC-BC06-6E0B88B2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BDA-1F8E-4EB1-B76A-4AD47A57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129-ECBD-4F6E-BB87-75729A5C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A64-0358-44BA-BFA6-922E5715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D92-5D7E-4A78-BCA0-A591AFB7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CCE-E1E5-4B55-8C39-50C28655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5C6-E724-4445-B4B2-EFE91B6C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B03-7B92-4517-8E76-C26BCFE3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90F-4147-423E-B707-AD549D9C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119-8019-4622-8BDB-AB5482F5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679-9E64-4C00-891B-AF468E5B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46FE-01BC-4BDA-BFF3-7967EFA76DE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logoINS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85960" y="1214280"/>
            <a:ext cx="5786280" cy="434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15920" y="833400"/>
            <a:ext cx="8913960" cy="5191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2340000" y="350028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NN 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2 CuadroTexto"/>
          <p:cNvSpPr/>
          <p:nvPr/>
        </p:nvSpPr>
        <p:spPr>
          <a:xfrm>
            <a:off x="900000" y="2997360"/>
            <a:ext cx="6985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V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Pertin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Oport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valuación y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1268280"/>
            <a:ext cx="914400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Narrow"/>
              </a:rPr>
              <a:t>Monitoreo a la implantación de acciones del pl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2 CuadroTexto"/>
          <p:cNvSpPr/>
          <p:nvPr/>
        </p:nvSpPr>
        <p:spPr>
          <a:xfrm>
            <a:off x="755640" y="1557360"/>
            <a:ext cx="7705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Viabili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alibri"/>
              </a:rPr>
              <a:t>Que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Asegurar que se dispone de los recursos humanos, físicos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y  económicos, para la ejecución de las acc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alibri"/>
              </a:rPr>
              <a:t>Como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Describiendo los recursos que serán necesarios para la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jecución del plan, cuantificando las necesidades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conómicas y fijando el origen de los recur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alibri"/>
              </a:rPr>
              <a:t>Donde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Institución donde se realiza la formulación del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alibri"/>
              </a:rPr>
              <a:t>Cuando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: Antes de ser cargado al aplicativo web (Alerta 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alibri"/>
              </a:rPr>
              <a:t>Quien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Comité responsable de la formulación del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alibri"/>
              </a:rPr>
              <a:t>Soporte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: Reserva presupuestal y / o Presupues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2 CuadroTexto"/>
          <p:cNvSpPr/>
          <p:nvPr/>
        </p:nvSpPr>
        <p:spPr>
          <a:xfrm>
            <a:off x="971640" y="1052640"/>
            <a:ext cx="698508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ertinen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alibri"/>
              </a:rPr>
              <a:t>Que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Verificar que las intervenciones propuestas responden a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las necesidades identificadas y que las mismas son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lcanzables y med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alibri"/>
              </a:rPr>
              <a:t>Como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nalizando si la acción de mejora esta dirigida a producir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un impacto positivo sobre la necesidad descrita en el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factor determinante. Las acciones deben ser alcanzables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y med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alibri"/>
              </a:rPr>
              <a:t>Donde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mité municipal o departamental de evaluación al plan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e mejora (superior jerárquic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alibri"/>
              </a:rPr>
              <a:t>Cuando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Máximo 8 días posteriores a formulación del plan (Alerta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alibri"/>
              </a:rPr>
              <a:t>Quien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uperior jerárquico (Com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alibri"/>
              </a:rPr>
              <a:t>Soporte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Firma de la persona que verifica la pertinencia (Alerta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2 CuadroTexto"/>
          <p:cNvSpPr/>
          <p:nvPr/>
        </p:nvSpPr>
        <p:spPr>
          <a:xfrm>
            <a:off x="1116000" y="1125360"/>
            <a:ext cx="6985080" cy="54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Oportunida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0000"/>
                </a:solidFill>
                <a:latin typeface="Calibri"/>
              </a:rPr>
              <a:t>Que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Realizar seguimiento al cumplimiento de los plazos 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para la ejecución de las acciones formuladas en el 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plan de mejora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0000"/>
                </a:solidFill>
                <a:latin typeface="Calibri"/>
              </a:rPr>
              <a:t>Como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Verificando los soportes de ejecución de las acciones 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y registrando en el aplicativo web su cumplimiento. 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(Alerta 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0000"/>
                </a:solidFill>
                <a:latin typeface="Calibri"/>
              </a:rPr>
              <a:t>Donde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 Institución donde se realiza la formulación del pl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0000"/>
                </a:solidFill>
                <a:latin typeface="Calibri"/>
              </a:rPr>
              <a:t>Cuando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 Máximo 2 días posteriores al plazo fijado para la 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 ejecución de las acci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0000"/>
                </a:solidFill>
                <a:latin typeface="Calibri"/>
              </a:rPr>
              <a:t>Quien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 Líder del pl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0000"/>
                </a:solidFill>
                <a:latin typeface="Calibri"/>
              </a:rPr>
              <a:t>Soporte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: Soporte de ejecución / Confirmación de la ejecución 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  registrada en el aplicativo web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2 CuadroTexto"/>
          <p:cNvSpPr/>
          <p:nvPr/>
        </p:nvSpPr>
        <p:spPr>
          <a:xfrm>
            <a:off x="324000" y="836640"/>
            <a:ext cx="8496000" cy="57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valuación y cier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Que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uantificar el porcentaje de cumplimiento de las acciones de mejoramiento,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valuar el impacto de las mismas sobre los factores determinantes e identificar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oportunidades de mej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Como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lculando el porcentaje de acciones ejecutadas y acciones ejecutadas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oportunamente. Evaluando el impacto de las acciones de mejora sobre los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actores determinantes (Porcentaje de acciones que impactaron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ositivamente). Ajustando el plan de mejoramiento con las acciones no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umplidas y con nuevas acciones dirigidas a producir un impacto positivo sobre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a necesidades descritas en el factor determinante no modif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Donde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stitución donde se realiza la formulación del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Cuando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da mes y 15 días después de vencido el último plazo de ejecución de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c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Quien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mité responsable de la formulación del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Soporte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ctas de seguimiento al plan de mejora / Ajustes al plan de mejora cargados en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a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5 Rectángulo redondeado"/>
          <p:cNvSpPr/>
          <p:nvPr/>
        </p:nvSpPr>
        <p:spPr>
          <a:xfrm>
            <a:off x="3348000" y="177336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826920" y="1623960"/>
            <a:ext cx="7201080" cy="4037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187280" y="105264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Indicadores evaluación al monitoreo de 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4 CuadroTexto"/>
          <p:cNvSpPr/>
          <p:nvPr/>
        </p:nvSpPr>
        <p:spPr>
          <a:xfrm>
            <a:off x="3348000" y="1700280"/>
            <a:ext cx="576360" cy="2764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lertas y semafor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57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Alertas al proceso definición del plan de ac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Alertas frente al cumplimiento de las acciones propue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emaforiz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49400" y="981000"/>
            <a:ext cx="8815320" cy="518472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Inducción y capacitación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istema de Vigilancia Epidemiológica de Mortalidad Materna Basado en la We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Octubre 3, 4 y 5 de 20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900" spc="-1" strike="noStrike">
                <a:solidFill>
                  <a:srgbClr val="000000"/>
                </a:solidFill>
                <a:latin typeface="Calibri"/>
              </a:rPr>
              <a:t>Monitoreo a la implementación de accion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50920" y="1341360"/>
          <a:ext cx="84978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497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95280" y="97092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Entidades y Organizaciones participantes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Ministerio de Salud y 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Instituto Nacion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Departamentales de Salud de Antioquia, Caldas, V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Municipales de Salud de Medellín, Manizales y 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 Distrital de Salud de Bogotá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Mundial de la Salud, Departamento de MPS/CAH  Ginebra, Su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Panamericana de la Salud/ Oficina de la Representación en 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Latinoamericano de Perinatología-CLAP, Organización Panamericana de la Salud Montevideo,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NACER, Salud Sexual y reproductiva - Universidad de Antioq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s para el Control y Prevención de Enfermedades (C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Agencia auspiciadora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Agencia de los Estados Unidos para el Desarrollo Internacional (USAID), Oficina América Latina y el Caribe, Washington D.C., Estados Unidos de Norte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3 Título"/>
          <p:cNvSpPr/>
          <p:nvPr/>
        </p:nvSpPr>
        <p:spPr>
          <a:xfrm>
            <a:off x="68580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Componente de recomendaciones y 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Módulo 7 “Plan de ac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5"/>
          <p:cNvGrpSpPr/>
          <p:nvPr/>
        </p:nvGrpSpPr>
        <p:grpSpPr>
          <a:xfrm>
            <a:off x="755640" y="1984320"/>
            <a:ext cx="6432480" cy="3774960"/>
            <a:chOff x="755640" y="1984320"/>
            <a:chExt cx="6432480" cy="3774960"/>
          </a:xfrm>
        </p:grpSpPr>
        <p:sp>
          <p:nvSpPr>
            <p:cNvPr id="54" name="4 Elipse"/>
            <p:cNvSpPr/>
            <p:nvPr/>
          </p:nvSpPr>
          <p:spPr>
            <a:xfrm>
              <a:off x="4973400" y="4473360"/>
              <a:ext cx="221472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Análisis de hallazg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6 Elipse"/>
            <p:cNvSpPr/>
            <p:nvPr/>
          </p:nvSpPr>
          <p:spPr>
            <a:xfrm>
              <a:off x="755640" y="2627280"/>
              <a:ext cx="22143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valuación y refin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" name="9 Conector recto de flecha"/>
            <p:cNvCxnSpPr/>
            <p:nvPr/>
          </p:nvCxnSpPr>
          <p:spPr>
            <a:xfrm>
              <a:off x="5717880" y="2055600"/>
              <a:ext cx="967320" cy="6897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57" name="11 Conector recto de flecha"/>
            <p:cNvCxnSpPr/>
            <p:nvPr/>
          </p:nvCxnSpPr>
          <p:spPr>
            <a:xfrm flipH="1">
              <a:off x="6684480" y="3913200"/>
              <a:ext cx="286560" cy="7149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58" name="16 Conector recto de flecha"/>
            <p:cNvCxnSpPr/>
            <p:nvPr/>
          </p:nvCxnSpPr>
          <p:spPr>
            <a:xfrm flipH="1" flipV="1">
              <a:off x="4183920" y="5270040"/>
              <a:ext cx="786600" cy="21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59" name="20 Conector recto de flecha"/>
            <p:cNvCxnSpPr>
              <a:endCxn id="55" idx="4"/>
            </p:cNvCxnSpPr>
            <p:nvPr/>
          </p:nvCxnSpPr>
          <p:spPr>
            <a:xfrm flipV="1">
              <a:off x="1662120" y="3912840"/>
              <a:ext cx="202320" cy="76104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60" name="24 Conector recto de flecha"/>
            <p:cNvCxnSpPr/>
            <p:nvPr/>
          </p:nvCxnSpPr>
          <p:spPr>
            <a:xfrm flipV="1">
              <a:off x="2398680" y="1984320"/>
              <a:ext cx="1000800" cy="64332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</p:grpSp>
      <p:sp>
        <p:nvSpPr>
          <p:cNvPr id="61" name="21 Elipse"/>
          <p:cNvSpPr/>
          <p:nvPr/>
        </p:nvSpPr>
        <p:spPr>
          <a:xfrm>
            <a:off x="3564000" y="1052640"/>
            <a:ext cx="2214360" cy="1285920"/>
          </a:xfrm>
          <a:prstGeom prst="ellipse">
            <a:avLst/>
          </a:prstGeom>
          <a:solidFill>
            <a:srgbClr val="ffcc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Identificación de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2 Elipse"/>
          <p:cNvSpPr/>
          <p:nvPr/>
        </p:nvSpPr>
        <p:spPr>
          <a:xfrm>
            <a:off x="1116000" y="4653000"/>
            <a:ext cx="2808360" cy="1285920"/>
          </a:xfrm>
          <a:prstGeom prst="ellipse">
            <a:avLst/>
          </a:prstGeom>
          <a:solidFill>
            <a:srgbClr val="99cc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comendaciones y a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3 Elipse"/>
          <p:cNvSpPr/>
          <p:nvPr/>
        </p:nvSpPr>
        <p:spPr>
          <a:xfrm>
            <a:off x="6227640" y="2637000"/>
            <a:ext cx="2214720" cy="1285560"/>
          </a:xfrm>
          <a:prstGeom prst="ellipse">
            <a:avLst/>
          </a:prstGeom>
          <a:solidFill>
            <a:srgbClr val="ffcc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colección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6 CuadroTexto"/>
          <p:cNvSpPr/>
          <p:nvPr/>
        </p:nvSpPr>
        <p:spPr>
          <a:xfrm>
            <a:off x="468360" y="2781360"/>
            <a:ext cx="8209080" cy="3020040"/>
          </a:xfrm>
          <a:prstGeom prst="rect">
            <a:avLst/>
          </a:prstGeom>
          <a:solidFill>
            <a:srgbClr val="ffcc00">
              <a:alpha val="3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Establecer las acciones requeridas para prevenir, mitigar  y corregir los factores identificados que contribuyeron directa e indirectamente en la muerte ma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Estas acciones son identificadas y consensuadas por el comité de análisis departamental y desarrolladas por todos los actores e instituciones involucrados alrededor de los casos de muerte ma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79280" y="1125360"/>
            <a:ext cx="864252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8654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7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187280" y="3716280"/>
            <a:ext cx="1746360" cy="520560"/>
          </a:xfrm>
          <a:prstGeom prst="rect">
            <a:avLst/>
          </a:prstGeom>
          <a:solidFill>
            <a:srgbClr val="00ccff">
              <a:alpha val="11000"/>
            </a:srgbClr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MU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635280" y="3716280"/>
            <a:ext cx="1737000" cy="520560"/>
          </a:xfrm>
          <a:prstGeom prst="rect">
            <a:avLst/>
          </a:prstGeom>
          <a:solidFill>
            <a:srgbClr val="3366ff">
              <a:alpha val="29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012000" y="3716280"/>
            <a:ext cx="2590560" cy="520560"/>
          </a:xfrm>
          <a:prstGeom prst="rect">
            <a:avLst/>
          </a:prstGeom>
          <a:solidFill>
            <a:srgbClr val="3366ff">
              <a:alpha val="29000"/>
            </a:srgbClr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187280" y="4869000"/>
            <a:ext cx="7056720" cy="1191240"/>
          </a:xfrm>
          <a:prstGeom prst="rect">
            <a:avLst/>
          </a:prstGeom>
          <a:solidFill>
            <a:srgbClr val="33cccc">
              <a:alpha val="34000"/>
            </a:srgbClr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ISTEMA DE SAL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(ASEGURAMIENTO - ACCESO - PRESTACION SERVICIOS DE SALU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258920" y="2997360"/>
            <a:ext cx="7058160" cy="398880"/>
          </a:xfrm>
          <a:prstGeom prst="rect">
            <a:avLst/>
          </a:prstGeom>
          <a:solidFill>
            <a:srgbClr val="800080">
              <a:alpha val="43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ATEGORIAS ORDENADORAS PLAN DE A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68360" y="2133720"/>
            <a:ext cx="8280360" cy="45972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ENFOQUE DETERMINANTES SOCIALES DE LA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2565360"/>
            <a:ext cx="8435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mponentes del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Factores identific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ituaciones hall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Que se va a re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1052640"/>
            <a:ext cx="9144000" cy="93636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7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256500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mo se va a re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Quien lo va a re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uando se realizar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Mecanismo de verif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1413000"/>
            <a:ext cx="9144000" cy="1008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7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7:31:15Z</dcterms:created>
  <dc:creator>k</dc:creator>
  <dc:description/>
  <dc:language>en-US</dc:language>
  <cp:lastModifiedBy>OPS</cp:lastModifiedBy>
  <dcterms:modified xsi:type="dcterms:W3CDTF">2012-10-03T10:38:40Z</dcterms:modified>
  <cp:revision>1930</cp:revision>
  <dc:subject/>
  <dc:title>Diapositiva 1</dc:title>
</cp:coreProperties>
</file>