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29.wmf" ContentType="image/x-wmf"/>
  <Override PartName="/ppt/media/image11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15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20.wmf" ContentType="image/x-wm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9C3C-2D30-4014-9C55-9829472F5F9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38146B-030A-427B-B0C6-37832B09C3D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FDFB-8AF9-4F0E-BD0C-4395C6C29DE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5761-55BF-454A-B163-D37F14AF3D3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6BEC-5C5A-40CA-87EC-9E7D21B9C35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928A-8FAD-4458-B80E-15161391966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5F23-F3C2-41D6-8922-BF0684FB3E6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F669-06C1-4FF7-91CA-7BA6BC83EA4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A888-6958-4040-AE51-A5C5EA3D799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83DA-32B2-4C8F-A5BA-CA07B29B272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C3A0-F039-494A-A75F-F0A6BAD26D1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54BB-3308-424D-A858-3757C6794D9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CEAE-C0F5-449B-8EB6-EDA85C25C32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F238-109B-4313-B5DE-202C6A319A9E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2EDA-5058-4042-9464-24ACA9212EC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B35D-DC46-4216-B988-29B65743E28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Obtener la mejor información para la toma de decisiones y el desarrollo de acciones, todos los pasos deben ir en secuen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B319-0236-4B18-BE0D-C6C3C364854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BF5-C5D1-45BE-B76F-CA4D9535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102-9507-4E9E-994C-142C7457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099-471C-4E7B-9002-35EEF09C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528-6E37-4F8F-AD7E-80A79C2A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E5E-C17B-41DC-828F-04E54EAB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837-93C1-428A-BEBC-EADF4BE5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8CC-F135-47F1-ABBD-2D917784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8F0-8E21-426C-A197-B91F2AAE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D8D-9A21-452B-9591-10463280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0C1-0B7F-4298-AF74-70D67587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120-D6CB-44B2-BBAB-81329838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77C-0C76-4AF2-B91E-2C67E8C4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0647-9D81-4A63-B35B-B55EA111B15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logoINS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85960" y="1214280"/>
            <a:ext cx="5786280" cy="434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42160" cy="86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clo de Vigilancia Epidemiológic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la mortalidad ma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39640" y="6012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Fuente: Organización Mundial de la Salud. Más allá de las cifras. Revisión de las muertes maternas y las complicaciones del embarazo para hacer la maternidad más segura. Ginebra, año 2004. Traducción al español año 200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766800" y="1673280"/>
            <a:ext cx="71899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Título"/>
          <p:cNvSpPr/>
          <p:nvPr/>
        </p:nvSpPr>
        <p:spPr>
          <a:xfrm>
            <a:off x="179280" y="907920"/>
            <a:ext cx="871380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1: Reporte de muertes en mujeres de 10  a 54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6 CuadroTexto"/>
          <p:cNvSpPr/>
          <p:nvPr/>
        </p:nvSpPr>
        <p:spPr>
          <a:xfrm>
            <a:off x="6659640" y="2565360"/>
            <a:ext cx="2233440" cy="3143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Identificar todas las muertes ocurridas en mujeres entre los 10 y los 54 años de edad, y a partir de allí, clasificar los casos como confirmados, descartados o dudo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5 Imagen" descr="Modulo_1.png"/>
          <p:cNvPicPr/>
          <p:nvPr/>
        </p:nvPicPr>
        <p:blipFill>
          <a:blip r:embed="rId1"/>
          <a:stretch/>
        </p:blipFill>
        <p:spPr>
          <a:xfrm>
            <a:off x="228600" y="2060640"/>
            <a:ext cx="59990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Título"/>
          <p:cNvSpPr/>
          <p:nvPr/>
        </p:nvSpPr>
        <p:spPr>
          <a:xfrm>
            <a:off x="324000" y="792000"/>
            <a:ext cx="8569080" cy="836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2: Notificación de muertes maternas confirm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6 CuadroTexto"/>
          <p:cNvSpPr/>
          <p:nvPr/>
        </p:nvSpPr>
        <p:spPr>
          <a:xfrm>
            <a:off x="7093080" y="3165480"/>
            <a:ext cx="1942920" cy="916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Notificar los casos confirmados de muerte ma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5 Imagen" descr="Modulo2.png"/>
          <p:cNvPicPr/>
          <p:nvPr/>
        </p:nvPicPr>
        <p:blipFill>
          <a:blip r:embed="rId1"/>
          <a:stretch/>
        </p:blipFill>
        <p:spPr>
          <a:xfrm>
            <a:off x="200160" y="1806480"/>
            <a:ext cx="638784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Título"/>
          <p:cNvSpPr/>
          <p:nvPr/>
        </p:nvSpPr>
        <p:spPr>
          <a:xfrm>
            <a:off x="544680" y="863640"/>
            <a:ext cx="7772400" cy="836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Notificación de muertes maternas por otras f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6 Rectángulo"/>
          <p:cNvSpPr/>
          <p:nvPr/>
        </p:nvSpPr>
        <p:spPr>
          <a:xfrm>
            <a:off x="7020000" y="2765520"/>
            <a:ext cx="2141640" cy="2014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Notificar los casos  de muertes maternas reportados a partir de otras fuentes de información (comunidad, policí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5 Imagen" descr="otras_fuentes.png"/>
          <p:cNvPicPr/>
          <p:nvPr/>
        </p:nvPicPr>
        <p:blipFill>
          <a:blip r:embed="rId1"/>
          <a:stretch/>
        </p:blipFill>
        <p:spPr>
          <a:xfrm>
            <a:off x="176040" y="1916280"/>
            <a:ext cx="65916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Título"/>
          <p:cNvSpPr/>
          <p:nvPr/>
        </p:nvSpPr>
        <p:spPr>
          <a:xfrm>
            <a:off x="250920" y="836640"/>
            <a:ext cx="870876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Notificación neg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 Rectángulo"/>
          <p:cNvSpPr/>
          <p:nvPr/>
        </p:nvSpPr>
        <p:spPr>
          <a:xfrm>
            <a:off x="6948360" y="2765520"/>
            <a:ext cx="1800360" cy="2014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videnciar la no ocurrencia de muertes en mujeres de 10 a 54 años ni muertes ma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6 Imagen" descr="Notificación_negativa.png"/>
          <p:cNvPicPr/>
          <p:nvPr/>
        </p:nvPicPr>
        <p:blipFill>
          <a:blip r:embed="rId1"/>
          <a:stretch/>
        </p:blipFill>
        <p:spPr>
          <a:xfrm>
            <a:off x="166680" y="1843200"/>
            <a:ext cx="66373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Título"/>
          <p:cNvSpPr/>
          <p:nvPr/>
        </p:nvSpPr>
        <p:spPr>
          <a:xfrm>
            <a:off x="826920" y="792000"/>
            <a:ext cx="7772400" cy="836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3. Verificación de embar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6 Rectángulo"/>
          <p:cNvSpPr/>
          <p:nvPr/>
        </p:nvSpPr>
        <p:spPr>
          <a:xfrm>
            <a:off x="7020000" y="2765520"/>
            <a:ext cx="2141640" cy="22885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cartar o confirmar el antecedente de embarazo a través de una entrevista a familiares o personas cercanas a la mujer fallec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7 Imagen" descr="Modulo_3.png"/>
          <p:cNvPicPr/>
          <p:nvPr/>
        </p:nvPicPr>
        <p:blipFill>
          <a:blip r:embed="rId1"/>
          <a:stretch/>
        </p:blipFill>
        <p:spPr>
          <a:xfrm>
            <a:off x="258840" y="1673280"/>
            <a:ext cx="63291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792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clo de Vigilancia Epidemiológic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la mortalidad ma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39640" y="60220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Fuente: Organización Mundial de la Salud. Más allá de las cifras. Revisión de las muertes maternas y las complicaciones del embarazo para hacer la maternidad más segura. Ginebra, año 2004. Traducción al español año 200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925560" y="1974960"/>
            <a:ext cx="68151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Título"/>
          <p:cNvSpPr/>
          <p:nvPr/>
        </p:nvSpPr>
        <p:spPr>
          <a:xfrm>
            <a:off x="684360" y="792000"/>
            <a:ext cx="7772400" cy="836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4A-Entrevista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6 Rectángulo"/>
          <p:cNvSpPr/>
          <p:nvPr/>
        </p:nvSpPr>
        <p:spPr>
          <a:xfrm>
            <a:off x="5867280" y="2316240"/>
            <a:ext cx="2952720" cy="3111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xplorar la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tuación personal, familiar y del entorno social de la mujer fallecida, conocer su historial reproductivo, eventos previos de salud y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ndiciones de acceso y uso de los servicios de salud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que pudieron estar relacionadas con la muerte y la calidad de la atención recib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5 Imagen" descr="Modulo_4A.png"/>
          <p:cNvPicPr/>
          <p:nvPr/>
        </p:nvPicPr>
        <p:blipFill>
          <a:blip r:embed="rId1"/>
          <a:stretch/>
        </p:blipFill>
        <p:spPr>
          <a:xfrm>
            <a:off x="34920" y="1773360"/>
            <a:ext cx="5689440" cy="46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Título"/>
          <p:cNvSpPr/>
          <p:nvPr/>
        </p:nvSpPr>
        <p:spPr>
          <a:xfrm>
            <a:off x="539640" y="792000"/>
            <a:ext cx="7772400" cy="836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4B: Autopsia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 Rectángulo"/>
          <p:cNvSpPr/>
          <p:nvPr/>
        </p:nvSpPr>
        <p:spPr>
          <a:xfrm>
            <a:off x="6372360" y="2633760"/>
            <a:ext cx="2447640" cy="157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construir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historia y el camino recorrido por la mujer  fallecida, incluyendo morbilidad,  complicaciones y causas de m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6 Imagen" descr="Modulo_4.png"/>
          <p:cNvPicPr/>
          <p:nvPr/>
        </p:nvPicPr>
        <p:blipFill>
          <a:blip r:embed="rId2"/>
          <a:stretch/>
        </p:blipFill>
        <p:spPr>
          <a:xfrm>
            <a:off x="176040" y="1684440"/>
            <a:ext cx="605160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 Título"/>
          <p:cNvSpPr/>
          <p:nvPr/>
        </p:nvSpPr>
        <p:spPr>
          <a:xfrm>
            <a:off x="395280" y="836640"/>
            <a:ext cx="8280360" cy="72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5: Atención clínica de la mujer fallec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6 Rectángulo"/>
          <p:cNvSpPr/>
          <p:nvPr/>
        </p:nvSpPr>
        <p:spPr>
          <a:xfrm>
            <a:off x="6372360" y="2909880"/>
            <a:ext cx="2555640" cy="2014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colectar información relacionada con la atención en salud brindada y conocer los detalles del manejo clínico de la mujer fallec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5 Imagen" descr="modulo 5 _p2.png"/>
          <p:cNvPicPr/>
          <p:nvPr/>
        </p:nvPicPr>
        <p:blipFill>
          <a:blip r:embed="rId2"/>
          <a:stretch/>
        </p:blipFill>
        <p:spPr>
          <a:xfrm>
            <a:off x="138240" y="2060640"/>
            <a:ext cx="6070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Inducción y capacitación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Sistema de Vigilancia Epidemiológica de Mortalidad Materna Basado en la Web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Octubre 3, 4 y 5 de 20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91640" cy="86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clo de Vigilancia Epidemiológic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la mortalidad ma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39640" y="60220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Fuente: Organización Mundial de la Salud. Más allá de las cifras. Revisión de las muertes maternas y las complicaciones del embarazo para hacer la maternidad más segura. Ginebra, año 2004. Traducción al español año 200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60640" y="1916280"/>
            <a:ext cx="65800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1 Título"/>
          <p:cNvSpPr/>
          <p:nvPr/>
        </p:nvSpPr>
        <p:spPr>
          <a:xfrm>
            <a:off x="755640" y="863640"/>
            <a:ext cx="7772400" cy="836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6: Resumen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6 Rectángulo"/>
          <p:cNvSpPr/>
          <p:nvPr/>
        </p:nvSpPr>
        <p:spPr>
          <a:xfrm>
            <a:off x="6443640" y="2962440"/>
            <a:ext cx="2592360" cy="2533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resentar el resumen del proceso de atención  y de las  condiciones  asociadas a la muerte materna, aportando en el análisis INDIVIDUAL del c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5 Imagen" descr="Resumen_de_caso.png"/>
          <p:cNvPicPr/>
          <p:nvPr/>
        </p:nvPicPr>
        <p:blipFill>
          <a:blip r:embed="rId2"/>
          <a:stretch/>
        </p:blipFill>
        <p:spPr>
          <a:xfrm>
            <a:off x="322200" y="1757520"/>
            <a:ext cx="55450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1 Título"/>
          <p:cNvSpPr/>
          <p:nvPr/>
        </p:nvSpPr>
        <p:spPr>
          <a:xfrm>
            <a:off x="755640" y="792000"/>
            <a:ext cx="7772400" cy="836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6: Informe técnico de la muerte ma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3 Imagen" descr="Informe_Técnico.png"/>
          <p:cNvPicPr/>
          <p:nvPr/>
        </p:nvPicPr>
        <p:blipFill>
          <a:blip r:embed="rId2"/>
          <a:stretch/>
        </p:blipFill>
        <p:spPr>
          <a:xfrm>
            <a:off x="34920" y="1774800"/>
            <a:ext cx="6697800" cy="4749840"/>
          </a:xfrm>
          <a:prstGeom prst="rect">
            <a:avLst/>
          </a:prstGeom>
          <a:ln w="0">
            <a:noFill/>
          </a:ln>
        </p:spPr>
      </p:pic>
      <p:sp>
        <p:nvSpPr>
          <p:cNvPr id="111" name="3 Rectángulo"/>
          <p:cNvSpPr/>
          <p:nvPr/>
        </p:nvSpPr>
        <p:spPr>
          <a:xfrm>
            <a:off x="6840360" y="2295360"/>
            <a:ext cx="2195640" cy="375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avorecer el análisis de factores  o condiciones relacionadas con la muerte materna, el establecimiento de la causa básica y la clasificación del caso (evitable, no evitable, directa,  indirecta, coincide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1 Título"/>
          <p:cNvSpPr/>
          <p:nvPr/>
        </p:nvSpPr>
        <p:spPr>
          <a:xfrm>
            <a:off x="250920" y="863640"/>
            <a:ext cx="8497800" cy="836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6: Informe técnico de la muerte ma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5 Imagen" descr="Informe_Tecnico_2.png"/>
          <p:cNvPicPr/>
          <p:nvPr/>
        </p:nvPicPr>
        <p:blipFill>
          <a:blip r:embed="rId2"/>
          <a:stretch/>
        </p:blipFill>
        <p:spPr>
          <a:xfrm>
            <a:off x="1055520" y="1916280"/>
            <a:ext cx="64692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280" y="774720"/>
            <a:ext cx="8964720" cy="782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clo de Vigilancia Epidemiológic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la mortalidad ma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9640" y="59508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Fuente: Organización Mundial de la Salud. Más allá de las cifras. Revisión de las muertes maternas y las complicaciones del embarazo para hacer la maternidad más segura. Ginebra, año 2004. Traducción al español año 200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873000" y="1728720"/>
            <a:ext cx="701208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1 Título"/>
          <p:cNvSpPr/>
          <p:nvPr/>
        </p:nvSpPr>
        <p:spPr>
          <a:xfrm>
            <a:off x="468360" y="836640"/>
            <a:ext cx="8130960" cy="72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7: Plan de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6 Rectángulo"/>
          <p:cNvSpPr/>
          <p:nvPr/>
        </p:nvSpPr>
        <p:spPr>
          <a:xfrm>
            <a:off x="6048360" y="2743200"/>
            <a:ext cx="3060720" cy="256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efinir de manera consensuadas las acciones que contribuyan a disminuir las condiciones que a criterio del comité de análisis estuvieron relacionadas con la muerte materna para evitar que se repitan y lleven a la ocurrencia de una nueva muerte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0" y="1628640"/>
            <a:ext cx="601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79040"/>
            <a:ext cx="8229600" cy="849240"/>
          </a:xfrm>
          <a:prstGeom prst="rect">
            <a:avLst/>
          </a:prstGeom>
          <a:gradFill rotWithShape="0">
            <a:gsLst>
              <a:gs pos="0">
                <a:srgbClr val="c0504d">
                  <a:alpha val="48235"/>
                </a:srgbClr>
              </a:gs>
              <a:gs pos="100000">
                <a:srgbClr val="0000ff">
                  <a:alpha val="32156"/>
                </a:srgbClr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portes y Sali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bl"/>
          <p:cNvPicPr/>
          <p:nvPr/>
        </p:nvPicPr>
        <p:blipFill>
          <a:blip r:embed="rId1"/>
          <a:stretch/>
        </p:blipFill>
        <p:spPr>
          <a:xfrm>
            <a:off x="-4680" y="1628640"/>
            <a:ext cx="6016680" cy="4389480"/>
          </a:xfrm>
          <a:prstGeom prst="rect">
            <a:avLst/>
          </a:prstGeom>
          <a:ln w="0">
            <a:noFill/>
          </a:ln>
        </p:spPr>
      </p:pic>
      <p:sp>
        <p:nvSpPr>
          <p:cNvPr id="122" name="3 Rectángulo"/>
          <p:cNvSpPr/>
          <p:nvPr/>
        </p:nvSpPr>
        <p:spPr>
          <a:xfrm>
            <a:off x="6119640" y="2743200"/>
            <a:ext cx="3060720" cy="1739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resentar la información agrupada de acuerdo a las necesidades del usuario, permitiendo la generación de gráficos y tablas con datos univariados y bivariad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60360" y="782640"/>
            <a:ext cx="809928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640" y="765000"/>
            <a:ext cx="8891640" cy="9352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clo de Vigilancia Epidemiológic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la mortalidad ma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539640" y="59508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Fuente: Organización Mundial de la Salud. Más allá de las cifras. Revisión de las muertes maternas y las complicaciones del embarazo para hacer la maternidad más segura. Ginebra, año 2004. Traducción al español año 200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04880" y="1736640"/>
            <a:ext cx="71802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1 Título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  <a:ea typeface="MS PGothic"/>
              </a:rPr>
              <a:t>Aspectos epidemiológicos del monitoreo y la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6840360" cy="5219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95280" y="970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Entidades y Organizaciones participantes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Ministerio de Salud y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Instituto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Departamentales de Salud de Antioquia, Caldas, 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Municipales de Salud de Medellín, Manizales y 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 Distrital de Salud de Bogotá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Mundial de la Salud, Departamento de MPS/CAH  Ginebra, Su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Panamericana de la Salud/ Oficina de la Representación en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Latinoamericano de Perinatología-CLAP, Organización Panamericana de la Salud Montevideo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NACER, Salud Sexual y reproductiva - Universidad de Antioq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s para el Control y Prevención de Enfermedades (C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Agencia auspiciadora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Agencia de los Estados Unidos para el Desarrollo Internacional (USAID), Oficina América Latina y el Caribe, Washington D.C., Estados Unidos de Norte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1 Título"/>
          <p:cNvSpPr/>
          <p:nvPr/>
        </p:nvSpPr>
        <p:spPr>
          <a:xfrm>
            <a:off x="179280" y="765000"/>
            <a:ext cx="8820360" cy="57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  <a:ea typeface="MS PGothic"/>
              </a:rPr>
              <a:t>Algunos 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8713800" cy="49690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1143000"/>
          </a:xfrm>
          <a:prstGeom prst="rect">
            <a:avLst/>
          </a:prstGeom>
          <a:gradFill rotWithShape="0">
            <a:gsLst>
              <a:gs pos="0">
                <a:srgbClr val="c0504d">
                  <a:alpha val="48235"/>
                </a:srgbClr>
              </a:gs>
              <a:gs pos="100000">
                <a:srgbClr val="0000ff">
                  <a:alpha val="32156"/>
                </a:srgbClr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3 Título"/>
          <p:cNvSpPr/>
          <p:nvPr/>
        </p:nvSpPr>
        <p:spPr>
          <a:xfrm>
            <a:off x="685800" y="155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ceptualización y estruc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l SVEMMB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de el abordaje epidemi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764640"/>
            <a:ext cx="8891640" cy="6382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scrip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Diagrama" descr=""/>
          <p:cNvPicPr/>
          <p:nvPr/>
        </p:nvPicPr>
        <p:blipFill>
          <a:blip r:embed="rId1"/>
          <a:stretch/>
        </p:blipFill>
        <p:spPr>
          <a:xfrm>
            <a:off x="590400" y="1620720"/>
            <a:ext cx="76201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640" y="764640"/>
            <a:ext cx="8891640" cy="6382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scrip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Diagrama" descr=""/>
          <p:cNvPicPr/>
          <p:nvPr/>
        </p:nvPicPr>
        <p:blipFill>
          <a:blip r:embed="rId1"/>
          <a:stretch/>
        </p:blipFill>
        <p:spPr>
          <a:xfrm>
            <a:off x="590400" y="1620720"/>
            <a:ext cx="76201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845640"/>
            <a:ext cx="8642160" cy="6382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132000" y="1557360"/>
            <a:ext cx="2897280" cy="3166920"/>
          </a:xfrm>
          <a:prstGeom prst="rect">
            <a:avLst/>
          </a:prstGeom>
          <a:ln w="0">
            <a:noFill/>
          </a:ln>
        </p:spPr>
      </p:pic>
      <p:sp>
        <p:nvSpPr>
          <p:cNvPr id="61" name="4 Flecha derecha"/>
          <p:cNvSpPr/>
          <p:nvPr/>
        </p:nvSpPr>
        <p:spPr>
          <a:xfrm rot="838800">
            <a:off x="756720" y="1805040"/>
            <a:ext cx="2305080" cy="208764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507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cenario fí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Flecha izquierda"/>
          <p:cNvSpPr/>
          <p:nvPr/>
        </p:nvSpPr>
        <p:spPr>
          <a:xfrm rot="20493000">
            <a:off x="6140520" y="1712880"/>
            <a:ext cx="2233440" cy="2087640"/>
          </a:xfrm>
          <a:prstGeom prst="lef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cenario escr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Flecha arriba"/>
          <p:cNvSpPr/>
          <p:nvPr/>
        </p:nvSpPr>
        <p:spPr>
          <a:xfrm>
            <a:off x="3276720" y="4724280"/>
            <a:ext cx="2519280" cy="19447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cenario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9 Rectángulo redondeado"/>
          <p:cNvSpPr/>
          <p:nvPr/>
        </p:nvSpPr>
        <p:spPr>
          <a:xfrm>
            <a:off x="0" y="1413000"/>
            <a:ext cx="5508720" cy="424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000" y="890640"/>
            <a:ext cx="8891640" cy="450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Definición de ca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 1" descr=""/>
          <p:cNvPicPr/>
          <p:nvPr/>
        </p:nvPicPr>
        <p:blipFill>
          <a:blip r:embed="rId1"/>
          <a:srcRect l="-112" t="-400" r="-112" b="-416"/>
          <a:stretch/>
        </p:blipFill>
        <p:spPr>
          <a:xfrm>
            <a:off x="5653080" y="1484280"/>
            <a:ext cx="3166920" cy="4753080"/>
          </a:xfrm>
          <a:prstGeom prst="rect">
            <a:avLst/>
          </a:prstGeom>
          <a:ln w="0">
            <a:noFill/>
          </a:ln>
        </p:spPr>
      </p:pic>
      <p:sp>
        <p:nvSpPr>
          <p:cNvPr id="67" name="4 Rectángulo"/>
          <p:cNvSpPr/>
          <p:nvPr/>
        </p:nvSpPr>
        <p:spPr>
          <a:xfrm>
            <a:off x="7812000" y="3789360"/>
            <a:ext cx="936720" cy="93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Definición de ca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 CuadroTexto"/>
          <p:cNvSpPr/>
          <p:nvPr/>
        </p:nvSpPr>
        <p:spPr>
          <a:xfrm>
            <a:off x="250920" y="1546200"/>
            <a:ext cx="51130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Muerte de una mujer mientras está en embarazo o dentro de los 42 días siguientes a la terminación del mismo, independientemente de la duración y el sitio del embarazo, y que es debida a cualquier causa relacionada con o agravada por el embarazo mismo o su atención pero no por causas accidentales o incidentales, a excepción de los casos de suicidi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ara tener una mejor comprensión de la situación de mortalidad materna en Colombia, se incluirán las muertes materna tardías (entre los 42 y los 365 días después de la terminación de la gestación  CIE 10, 0.96) y la muerte de una mujer durante el embarazo, el parto o hasta los 42 días del puerperio por suicidio”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9640" y="5783400"/>
            <a:ext cx="4427640" cy="596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a el cálculo de la razón solamente se incluirán en el numerador los casos de muerte materna por causa obstétrica directa e indirecta hasta los 42 días después del parto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86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clo de Vigilancia Epidemiológic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la mortalidad ma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7777080" cy="4465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539640" y="6093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Fuente: Organización Mundial de la Salud. Más allá de las cifras. Revisión de las muertes maternas y las complicaciones del embarazo para hacer la maternidad más segura. Ginebra, año 2004. Traducción al español año 200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7:31:15Z</dcterms:created>
  <dc:creator>k</dc:creator>
  <dc:description/>
  <dc:language>en-US</dc:language>
  <cp:lastModifiedBy>OPS</cp:lastModifiedBy>
  <dcterms:modified xsi:type="dcterms:W3CDTF">2012-10-03T11:10:26Z</dcterms:modified>
  <cp:revision>1946</cp:revision>
  <dc:subject/>
  <dc:title>Diapositiva 1</dc:title>
</cp:coreProperties>
</file>