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14.wmf" ContentType="image/x-wmf"/>
  <Override PartName="/ppt/media/image6.png" ContentType="image/png"/>
  <Override PartName="/ppt/media/image31.png" ContentType="image/png"/>
  <Override PartName="/ppt/media/image29.wmf" ContentType="image/x-wmf"/>
  <Override PartName="/ppt/media/image11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1.jpeg" ContentType="image/jpeg"/>
  <Override PartName="/ppt/media/image15.png" ContentType="image/png"/>
  <Override PartName="/ppt/media/image16.png" ContentType="image/png"/>
  <Override PartName="/ppt/media/image18.png" ContentType="image/png"/>
  <Override PartName="/ppt/media/image19.png" ContentType="image/png"/>
  <Override PartName="/ppt/media/image21.png" ContentType="image/png"/>
  <Override PartName="/ppt/media/image20.wmf" ContentType="image/x-wmf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7A8B-54FA-4B84-B2B4-09D9D5676D53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A70CF1-BA8B-4978-9DD1-F4108332CF5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7C83-FB07-47AE-958F-9D6ECBEA3B3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DF9C-112A-4652-9BC9-F852B49C89C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BDB0-F653-4B47-BD46-2D058447DC5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B085-DF03-48A4-9BE4-13AFA8698681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C18D-8A54-4929-93AE-C84B1121FE6D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C788-1847-4D24-901B-02EEBC96A53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BEB7-A187-4232-BA1B-A920B6222DC2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8D72-EA29-4BC0-B2CD-1E67A95159BF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680F-9C80-4C54-A891-076D35C6B9B6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36A9-CEFA-4B92-90F5-A2B31B5221F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FA28-6AC3-4C1E-B48E-A2A9620ED5C4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FE23-9239-4A70-A89C-AF8F455EE4A7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43AE-2C49-44AB-94E1-2DF9B515903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516F-A346-41D0-B590-0667504D98E0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Obtener la mejor información para la toma de decisiones y el desarrollo de acciones, todos los pasos deben ir en secuenc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3C92-C3BC-4EE4-9108-E67DF396268A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02A9-52C5-4317-959A-106DD9BD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547D-FE52-45D9-BD57-81FD5499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1AF4-D89E-47F0-9578-CDEF51A5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C93-DCC8-42D3-98B1-B9B329CF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F0A0-4FB5-4B3C-8BC1-05B5C8E8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953A-4DAF-42D3-BF46-4C32289E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069B-E340-430A-82F3-C0D430EB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A3D-6FD4-4CB5-8F87-4743A203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402C-CA5E-4EFF-8042-51BCA63A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2C6D-BE44-4256-BEF0-C542FA1E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C66-FFF0-4B44-8D1A-934E9F0A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D193-2265-41D1-AC5F-6ABB1A39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D1AC-F1EC-4FCC-BA4F-83E456AD667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logoINS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785960" y="1214280"/>
            <a:ext cx="5786280" cy="434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642160" cy="863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clo de Vigilancia Epidemiológica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 la mortalidad mate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539640" y="60127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</a:rPr>
              <a:t>Fuente: Organización Mundial de la Salud. Más allá de las cifras. Revisión de las muertes maternas y las complicaciones del embarazo para hacer la maternidad más segura. Ginebra, año 2004. Traducción al español año 2009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766800" y="1673280"/>
            <a:ext cx="718992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1 Título"/>
          <p:cNvSpPr/>
          <p:nvPr/>
        </p:nvSpPr>
        <p:spPr>
          <a:xfrm>
            <a:off x="179280" y="907920"/>
            <a:ext cx="871380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Módulo 1: Reporte de muertes en mujeres de 10  a 54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6 CuadroTexto"/>
          <p:cNvSpPr/>
          <p:nvPr/>
        </p:nvSpPr>
        <p:spPr>
          <a:xfrm>
            <a:off x="6659640" y="2565360"/>
            <a:ext cx="2233440" cy="3143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Identificar todas las muertes ocurridas en mujeres entre los 10 y los 54 años de edad, y a partir de allí, clasificar los casos como confirmados, descartados o dudo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5 Imagen" descr="Modulo_1.png"/>
          <p:cNvPicPr/>
          <p:nvPr/>
        </p:nvPicPr>
        <p:blipFill>
          <a:blip r:embed="rId1"/>
          <a:stretch/>
        </p:blipFill>
        <p:spPr>
          <a:xfrm>
            <a:off x="228600" y="2060640"/>
            <a:ext cx="59990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 Título"/>
          <p:cNvSpPr/>
          <p:nvPr/>
        </p:nvSpPr>
        <p:spPr>
          <a:xfrm>
            <a:off x="324000" y="792000"/>
            <a:ext cx="8569080" cy="836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Módulo 2: Notificación de muertes maternas confirm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6 CuadroTexto"/>
          <p:cNvSpPr/>
          <p:nvPr/>
        </p:nvSpPr>
        <p:spPr>
          <a:xfrm>
            <a:off x="7093080" y="3165480"/>
            <a:ext cx="1942920" cy="916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Notificar los casos confirmados de muerte ma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5 Imagen" descr="Modulo2.png"/>
          <p:cNvPicPr/>
          <p:nvPr/>
        </p:nvPicPr>
        <p:blipFill>
          <a:blip r:embed="rId1"/>
          <a:stretch/>
        </p:blipFill>
        <p:spPr>
          <a:xfrm>
            <a:off x="200160" y="1806480"/>
            <a:ext cx="638784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1 Título"/>
          <p:cNvSpPr/>
          <p:nvPr/>
        </p:nvSpPr>
        <p:spPr>
          <a:xfrm>
            <a:off x="544680" y="863640"/>
            <a:ext cx="7772400" cy="836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Notificación de muertes maternas por otras f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6 Rectángulo"/>
          <p:cNvSpPr/>
          <p:nvPr/>
        </p:nvSpPr>
        <p:spPr>
          <a:xfrm>
            <a:off x="7020000" y="2765520"/>
            <a:ext cx="2141640" cy="2014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Notificar los casos  de muertes maternas reportados a partir de otras fuentes de información (comunidad, policí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5 Imagen" descr="otras_fuentes.png"/>
          <p:cNvPicPr/>
          <p:nvPr/>
        </p:nvPicPr>
        <p:blipFill>
          <a:blip r:embed="rId1"/>
          <a:stretch/>
        </p:blipFill>
        <p:spPr>
          <a:xfrm>
            <a:off x="176040" y="1916280"/>
            <a:ext cx="65916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1 Título"/>
          <p:cNvSpPr/>
          <p:nvPr/>
        </p:nvSpPr>
        <p:spPr>
          <a:xfrm>
            <a:off x="250920" y="836640"/>
            <a:ext cx="8708760" cy="792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Notificación neg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 Rectángulo"/>
          <p:cNvSpPr/>
          <p:nvPr/>
        </p:nvSpPr>
        <p:spPr>
          <a:xfrm>
            <a:off x="6948360" y="2765520"/>
            <a:ext cx="1800360" cy="2014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videnciar la no ocurrencia de muertes en mujeres de 10 a 54 años ni muertes mater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6 Imagen" descr="Notificación_negativa.png"/>
          <p:cNvPicPr/>
          <p:nvPr/>
        </p:nvPicPr>
        <p:blipFill>
          <a:blip r:embed="rId1"/>
          <a:stretch/>
        </p:blipFill>
        <p:spPr>
          <a:xfrm>
            <a:off x="166680" y="1843200"/>
            <a:ext cx="66373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1 Título"/>
          <p:cNvSpPr/>
          <p:nvPr/>
        </p:nvSpPr>
        <p:spPr>
          <a:xfrm>
            <a:off x="826920" y="792000"/>
            <a:ext cx="7772400" cy="836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Módulo 3. Verificación de embar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6 Rectángulo"/>
          <p:cNvSpPr/>
          <p:nvPr/>
        </p:nvSpPr>
        <p:spPr>
          <a:xfrm>
            <a:off x="7020000" y="2765520"/>
            <a:ext cx="2141640" cy="22885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scartar o confirmar el antecedente de embarazo a través de una entrevista a familiares o personas cercanas a la mujer fallec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7 Imagen" descr="Modulo_3.png"/>
          <p:cNvPicPr/>
          <p:nvPr/>
        </p:nvPicPr>
        <p:blipFill>
          <a:blip r:embed="rId1"/>
          <a:stretch/>
        </p:blipFill>
        <p:spPr>
          <a:xfrm>
            <a:off x="258840" y="1673280"/>
            <a:ext cx="632916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79236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clo de Vigilancia Epidemiológica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 la mortalidad mate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539640" y="60220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</a:rPr>
              <a:t>Fuente: Organización Mundial de la Salud. Más allá de las cifras. Revisión de las muertes maternas y las complicaciones del embarazo para hacer la maternidad más segura. Ginebra, año 2004. Traducción al español año 2009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925560" y="1974960"/>
            <a:ext cx="68151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1 Título"/>
          <p:cNvSpPr/>
          <p:nvPr/>
        </p:nvSpPr>
        <p:spPr>
          <a:xfrm>
            <a:off x="684360" y="792000"/>
            <a:ext cx="7772400" cy="836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Módulo 4A-Entrevista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6 Rectángulo"/>
          <p:cNvSpPr/>
          <p:nvPr/>
        </p:nvSpPr>
        <p:spPr>
          <a:xfrm>
            <a:off x="5867280" y="2316240"/>
            <a:ext cx="2952720" cy="3111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Explorar la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ituación personal, familiar y del entorno social de la mujer fallecida, conocer su historial reproductivo, eventos previos de salud y 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ondiciones de acceso y uso de los servicios de salud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que pudieron estar relacionadas con la muerte y la calidad de la atención recib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5 Imagen" descr="Modulo_4A.png"/>
          <p:cNvPicPr/>
          <p:nvPr/>
        </p:nvPicPr>
        <p:blipFill>
          <a:blip r:embed="rId1"/>
          <a:stretch/>
        </p:blipFill>
        <p:spPr>
          <a:xfrm>
            <a:off x="34920" y="1773360"/>
            <a:ext cx="5689440" cy="46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1 Título"/>
          <p:cNvSpPr/>
          <p:nvPr/>
        </p:nvSpPr>
        <p:spPr>
          <a:xfrm>
            <a:off x="539640" y="792000"/>
            <a:ext cx="7772400" cy="836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Módulo 4B: Autopsia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5 Rectángulo"/>
          <p:cNvSpPr/>
          <p:nvPr/>
        </p:nvSpPr>
        <p:spPr>
          <a:xfrm>
            <a:off x="6372360" y="2633760"/>
            <a:ext cx="2447640" cy="157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construir </a:t>
            </a: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la historia y el camino recorrido por la mujer  fallecida, incluyendo morbilidad,  complicaciones y causas de mue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6 Imagen" descr="Modulo_4.png"/>
          <p:cNvPicPr/>
          <p:nvPr/>
        </p:nvPicPr>
        <p:blipFill>
          <a:blip r:embed="rId2"/>
          <a:stretch/>
        </p:blipFill>
        <p:spPr>
          <a:xfrm>
            <a:off x="176040" y="1684440"/>
            <a:ext cx="605160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 Título"/>
          <p:cNvSpPr/>
          <p:nvPr/>
        </p:nvSpPr>
        <p:spPr>
          <a:xfrm>
            <a:off x="395280" y="836640"/>
            <a:ext cx="8280360" cy="72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Módulo 5: Atención clínica de la mujer fallec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6 Rectángulo"/>
          <p:cNvSpPr/>
          <p:nvPr/>
        </p:nvSpPr>
        <p:spPr>
          <a:xfrm>
            <a:off x="6372360" y="2909880"/>
            <a:ext cx="2555640" cy="20142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colectar información relacionada con la atención en salud brindada y conocer los detalles del manejo clínico de la mujer fallec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5 Imagen" descr="modulo 5 _p2.png"/>
          <p:cNvPicPr/>
          <p:nvPr/>
        </p:nvPicPr>
        <p:blipFill>
          <a:blip r:embed="rId2"/>
          <a:stretch/>
        </p:blipFill>
        <p:spPr>
          <a:xfrm>
            <a:off x="138240" y="2060640"/>
            <a:ext cx="6070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Inducción y capacitación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Sistema de Vigilancia Epidemiológica de Mortalidad Materna Basado en la Web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Octubre 3, 4 y 5 de 20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000" y="836280"/>
            <a:ext cx="8891640" cy="863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clo de Vigilancia Epidemiológica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 la mortalidad mate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39640" y="60220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</a:rPr>
              <a:t>Fuente: Organización Mundial de la Salud. Más allá de las cifras. Revisión de las muertes maternas y las complicaciones del embarazo para hacer la maternidad más segura. Ginebra, año 2004. Traducción al español año 2009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160640" y="1916280"/>
            <a:ext cx="658008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1 Título"/>
          <p:cNvSpPr/>
          <p:nvPr/>
        </p:nvSpPr>
        <p:spPr>
          <a:xfrm>
            <a:off x="755640" y="863640"/>
            <a:ext cx="7772400" cy="836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Módulo 6: Resumen de 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6 Rectángulo"/>
          <p:cNvSpPr/>
          <p:nvPr/>
        </p:nvSpPr>
        <p:spPr>
          <a:xfrm>
            <a:off x="6443640" y="2962440"/>
            <a:ext cx="2592360" cy="2533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Presentar el resumen del proceso de atención  y de las  condiciones  asociadas a la muerte materna, aportando en el análisis INDIVIDUAL del c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5 Imagen" descr="Resumen_de_caso.png"/>
          <p:cNvPicPr/>
          <p:nvPr/>
        </p:nvPicPr>
        <p:blipFill>
          <a:blip r:embed="rId2"/>
          <a:stretch/>
        </p:blipFill>
        <p:spPr>
          <a:xfrm>
            <a:off x="322200" y="1757520"/>
            <a:ext cx="55450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1 Título"/>
          <p:cNvSpPr/>
          <p:nvPr/>
        </p:nvSpPr>
        <p:spPr>
          <a:xfrm>
            <a:off x="755640" y="792000"/>
            <a:ext cx="7772400" cy="836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Módulo 6: Informe técnico de la muerte ma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3 Imagen" descr="Informe_Técnico.png"/>
          <p:cNvPicPr/>
          <p:nvPr/>
        </p:nvPicPr>
        <p:blipFill>
          <a:blip r:embed="rId2"/>
          <a:stretch/>
        </p:blipFill>
        <p:spPr>
          <a:xfrm>
            <a:off x="34920" y="1774800"/>
            <a:ext cx="6697800" cy="4749840"/>
          </a:xfrm>
          <a:prstGeom prst="rect">
            <a:avLst/>
          </a:prstGeom>
          <a:ln w="0">
            <a:noFill/>
          </a:ln>
        </p:spPr>
      </p:pic>
      <p:sp>
        <p:nvSpPr>
          <p:cNvPr id="111" name="3 Rectángulo"/>
          <p:cNvSpPr/>
          <p:nvPr/>
        </p:nvSpPr>
        <p:spPr>
          <a:xfrm>
            <a:off x="6840360" y="2295360"/>
            <a:ext cx="2195640" cy="375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alibri"/>
              </a:rPr>
              <a:t>Favorecer el análisis de factores  o condiciones relacionadas con la muerte materna, el establecimiento de la causa básica y la clasificación del caso (evitable, no evitable, directa,  indirecta, coincide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1 Título"/>
          <p:cNvSpPr/>
          <p:nvPr/>
        </p:nvSpPr>
        <p:spPr>
          <a:xfrm>
            <a:off x="250920" y="863640"/>
            <a:ext cx="8497800" cy="836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Módulo 6: Informe técnico de la muerte ma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5 Imagen" descr="Informe_Tecnico_2.png"/>
          <p:cNvPicPr/>
          <p:nvPr/>
        </p:nvPicPr>
        <p:blipFill>
          <a:blip r:embed="rId2"/>
          <a:stretch/>
        </p:blipFill>
        <p:spPr>
          <a:xfrm>
            <a:off x="1055520" y="1916280"/>
            <a:ext cx="64692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280" y="774720"/>
            <a:ext cx="8964720" cy="782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clo de Vigilancia Epidemiológica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 la mortalidad mate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39640" y="59508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</a:rPr>
              <a:t>Fuente: Organización Mundial de la Salud. Más allá de las cifras. Revisión de las muertes maternas y las complicaciones del embarazo para hacer la maternidad más segura. Ginebra, año 2004. Traducción al español año 2009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873000" y="1728720"/>
            <a:ext cx="701208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1 Título"/>
          <p:cNvSpPr/>
          <p:nvPr/>
        </p:nvSpPr>
        <p:spPr>
          <a:xfrm>
            <a:off x="468360" y="836640"/>
            <a:ext cx="8130960" cy="72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Calibri"/>
                <a:ea typeface="MS PGothic"/>
              </a:rPr>
              <a:t>Módulo 7: Plan de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6 Rectángulo"/>
          <p:cNvSpPr/>
          <p:nvPr/>
        </p:nvSpPr>
        <p:spPr>
          <a:xfrm>
            <a:off x="6048360" y="2743200"/>
            <a:ext cx="3060720" cy="256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Definir de manera consensuadas las acciones que contribuyan a disminuir las condiciones que a criterio del comité de análisis estuvieron relacionadas con la muerte materna para evitar que se repitan y lleven a la ocurrencia de una nueva muerte ma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0" y="1628640"/>
            <a:ext cx="6012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79040"/>
            <a:ext cx="8229600" cy="849240"/>
          </a:xfrm>
          <a:prstGeom prst="rect">
            <a:avLst/>
          </a:prstGeom>
          <a:gradFill rotWithShape="0">
            <a:gsLst>
              <a:gs pos="0">
                <a:srgbClr val="c0504d">
                  <a:alpha val="48235"/>
                </a:srgbClr>
              </a:gs>
              <a:gs pos="100000">
                <a:srgbClr val="0000ff">
                  <a:alpha val="32156"/>
                </a:srgbClr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eportes y Salid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bl"/>
          <p:cNvPicPr/>
          <p:nvPr/>
        </p:nvPicPr>
        <p:blipFill>
          <a:blip r:embed="rId1"/>
          <a:stretch/>
        </p:blipFill>
        <p:spPr>
          <a:xfrm>
            <a:off x="-4680" y="1628640"/>
            <a:ext cx="6016680" cy="4389480"/>
          </a:xfrm>
          <a:prstGeom prst="rect">
            <a:avLst/>
          </a:prstGeom>
          <a:ln w="0">
            <a:noFill/>
          </a:ln>
        </p:spPr>
      </p:pic>
      <p:sp>
        <p:nvSpPr>
          <p:cNvPr id="122" name="3 Rectángulo"/>
          <p:cNvSpPr/>
          <p:nvPr/>
        </p:nvSpPr>
        <p:spPr>
          <a:xfrm>
            <a:off x="6119640" y="2743200"/>
            <a:ext cx="3060720" cy="1739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libri"/>
              </a:rPr>
              <a:t>Presentar la información agrupada de acuerdo a las necesidades del usuario, permitiendo la generación de gráficos y tablas con datos univariados y bivariad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60360" y="782640"/>
            <a:ext cx="809928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640" y="765000"/>
            <a:ext cx="8891640" cy="93528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clo de Vigilancia Epidemiológica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 la mortalidad mate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539640" y="59508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</a:rPr>
              <a:t>Fuente: Organización Mundial de la Salud. Más allá de las cifras. Revisión de las muertes maternas y las complicaciones del embarazo para hacer la maternidad más segura. Ginebra, año 2004. Traducción al español año 2009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704880" y="1736640"/>
            <a:ext cx="71802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1 Título"/>
          <p:cNvSpPr/>
          <p:nvPr/>
        </p:nvSpPr>
        <p:spPr>
          <a:xfrm>
            <a:off x="468360" y="765000"/>
            <a:ext cx="8209080" cy="576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  <a:ea typeface="MS PGothic"/>
              </a:rPr>
              <a:t>Aspectos epidemiológicos del monitoreo y la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6840360" cy="521964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95280" y="97092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Entidades y Organizaciones participantes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Ministerio de Salud y Protec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Instituto Nacional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Departamentales de Salud de Antioquia, Caldas, V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s Municipales de Salud de Medellín, Manizales y C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Secretaría Distrital de Salud de Bogotá,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Mundial de la Salud, Departamento de MPS/CAH  Ginebra, Su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Organización Panamericana de la Salud/ Oficina de la Representación en Colo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Latinoamericano de Perinatología-CLAP, Organización Panamericana de la Salud Montevideo,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 NACER, Salud Sexual y reproductiva - Universidad de Antioqu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Centros para el Control y Prevención de Enfermedades (CD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 Narrow"/>
              </a:rPr>
              <a:t>Agencia auspiciadora del 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 Narrow"/>
              </a:rPr>
              <a:t>Agencia de los Estados Unidos para el Desarrollo Internacional (USAID), Oficina América Latina y el Caribe, Washington D.C., Estados Unidos de Nortea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1 Título"/>
          <p:cNvSpPr/>
          <p:nvPr/>
        </p:nvSpPr>
        <p:spPr>
          <a:xfrm>
            <a:off x="179280" y="765000"/>
            <a:ext cx="8820360" cy="576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  <a:ea typeface="MS PGothic"/>
              </a:rPr>
              <a:t>Algunos ind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8713800" cy="49690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862000"/>
            <a:ext cx="8229600" cy="1143000"/>
          </a:xfrm>
          <a:prstGeom prst="rect">
            <a:avLst/>
          </a:prstGeom>
          <a:gradFill rotWithShape="0">
            <a:gsLst>
              <a:gs pos="0">
                <a:srgbClr val="c0504d">
                  <a:alpha val="48235"/>
                </a:srgbClr>
              </a:gs>
              <a:gs pos="100000">
                <a:srgbClr val="0000ff">
                  <a:alpha val="32156"/>
                </a:srgbClr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Grac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3 Título"/>
          <p:cNvSpPr/>
          <p:nvPr/>
        </p:nvSpPr>
        <p:spPr>
          <a:xfrm>
            <a:off x="685800" y="155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ceptualización y estruct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l SVEMMB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de el abordaje epidemi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764640"/>
            <a:ext cx="8891640" cy="63828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scrip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3 Diagrama" descr=""/>
          <p:cNvPicPr/>
          <p:nvPr/>
        </p:nvPicPr>
        <p:blipFill>
          <a:blip r:embed="rId1"/>
          <a:stretch/>
        </p:blipFill>
        <p:spPr>
          <a:xfrm>
            <a:off x="590400" y="1620720"/>
            <a:ext cx="76201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640" y="764640"/>
            <a:ext cx="8891640" cy="63828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scrip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3 Diagrama" descr=""/>
          <p:cNvPicPr/>
          <p:nvPr/>
        </p:nvPicPr>
        <p:blipFill>
          <a:blip r:embed="rId1"/>
          <a:stretch/>
        </p:blipFill>
        <p:spPr>
          <a:xfrm>
            <a:off x="590400" y="1620720"/>
            <a:ext cx="76201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845640"/>
            <a:ext cx="8642160" cy="63828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scen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132000" y="1557360"/>
            <a:ext cx="2897280" cy="3166920"/>
          </a:xfrm>
          <a:prstGeom prst="rect">
            <a:avLst/>
          </a:prstGeom>
          <a:ln w="0">
            <a:noFill/>
          </a:ln>
        </p:spPr>
      </p:pic>
      <p:sp>
        <p:nvSpPr>
          <p:cNvPr id="61" name="4 Flecha derecha"/>
          <p:cNvSpPr/>
          <p:nvPr/>
        </p:nvSpPr>
        <p:spPr>
          <a:xfrm rot="838800">
            <a:off x="756720" y="1805040"/>
            <a:ext cx="2305080" cy="2087640"/>
          </a:xfrm>
          <a:prstGeom prst="rightArrow">
            <a:avLst>
              <a:gd name="adj1" fmla="val 50000"/>
              <a:gd name="adj2" fmla="val 49999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507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cenario fí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6 Flecha izquierda"/>
          <p:cNvSpPr/>
          <p:nvPr/>
        </p:nvSpPr>
        <p:spPr>
          <a:xfrm rot="20493000">
            <a:off x="6140520" y="1712880"/>
            <a:ext cx="2233440" cy="2087640"/>
          </a:xfrm>
          <a:prstGeom prst="lef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cenario escri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7 Flecha arriba"/>
          <p:cNvSpPr/>
          <p:nvPr/>
        </p:nvSpPr>
        <p:spPr>
          <a:xfrm>
            <a:off x="3276720" y="4724280"/>
            <a:ext cx="2519280" cy="194472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cenario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9 Rectángulo redondeado"/>
          <p:cNvSpPr/>
          <p:nvPr/>
        </p:nvSpPr>
        <p:spPr>
          <a:xfrm>
            <a:off x="0" y="1413000"/>
            <a:ext cx="5508720" cy="4248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000" y="890640"/>
            <a:ext cx="8891640" cy="45072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Definición de cas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 1" descr=""/>
          <p:cNvPicPr/>
          <p:nvPr/>
        </p:nvPicPr>
        <p:blipFill>
          <a:blip r:embed="rId1"/>
          <a:srcRect l="-112" t="-400" r="-112" b="-416"/>
          <a:stretch/>
        </p:blipFill>
        <p:spPr>
          <a:xfrm>
            <a:off x="5653080" y="1484280"/>
            <a:ext cx="3166920" cy="4753080"/>
          </a:xfrm>
          <a:prstGeom prst="rect">
            <a:avLst/>
          </a:prstGeom>
          <a:ln w="0">
            <a:noFill/>
          </a:ln>
        </p:spPr>
      </p:pic>
      <p:sp>
        <p:nvSpPr>
          <p:cNvPr id="67" name="4 Rectángulo"/>
          <p:cNvSpPr/>
          <p:nvPr/>
        </p:nvSpPr>
        <p:spPr>
          <a:xfrm>
            <a:off x="7812000" y="3789360"/>
            <a:ext cx="936720" cy="93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Definición de ca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5 CuadroTexto"/>
          <p:cNvSpPr/>
          <p:nvPr/>
        </p:nvSpPr>
        <p:spPr>
          <a:xfrm>
            <a:off x="250920" y="1546200"/>
            <a:ext cx="51130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Muerte de una mujer mientras está en embarazo o dentro de los 42 días siguientes a la terminación del mismo, independientemente de la duración y el sitio del embarazo, y que es debida a cualquier causa relacionada con o agravada por el embarazo mismo o su atención pero no por causas accidentales o incidentales, a excepción de los casos de suicidi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ara tener una mejor comprensión de la situación de mortalidad materna en Colombia, se incluirán las muertes materna tardías (entre los 42 y los 365 días después de la terminación de la gestación  CIE 10, 0.96) y la muerte de una mujer durante el embarazo, el parto o hasta los 42 días del puerperio por suicidio”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9640" y="5783400"/>
            <a:ext cx="4427640" cy="596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a el cálculo de la razón solamente se incluirán en el numerador los casos de muerte materna por causa obstétrica directa e indirecta hasta los 42 días después del parto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863640"/>
          </a:xfrm>
          <a:prstGeom prst="rect">
            <a:avLst/>
          </a:prstGeom>
          <a:solidFill>
            <a:srgbClr val="e6b9b8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iclo de Vigilancia Epidemiológica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 la mortalidad mate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7777080" cy="44654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539640" y="60937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900" spc="-1" strike="noStrike">
                <a:solidFill>
                  <a:srgbClr val="000000"/>
                </a:solidFill>
                <a:latin typeface="Arial"/>
              </a:rPr>
              <a:t>Fuente: Organización Mundial de la Salud. Más allá de las cifras. Revisión de las muertes maternas y las complicaciones del embarazo para hacer la maternidad más segura. Ginebra, año 2004. Traducción al español año 2009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7:31:15Z</dcterms:created>
  <dc:creator>k</dc:creator>
  <dc:description/>
  <dc:language>en-US</dc:language>
  <cp:lastModifiedBy>OPS</cp:lastModifiedBy>
  <dcterms:modified xsi:type="dcterms:W3CDTF">2012-10-03T11:10:26Z</dcterms:modified>
  <cp:revision>1946</cp:revision>
  <dc:subject/>
  <dc:title>Diapositiva 1</dc:title>
</cp:coreProperties>
</file>