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27CE-97ED-460C-B07C-0739EFD29A1C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A951AF-2479-4B8A-B8F9-316BD4DCFAC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B225-9B9E-4246-A7AA-521CA56DE9A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0440-069F-4BBE-A432-CE65D809770B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F88E-DAF1-45EC-8763-3889C2CF824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78D9-8940-47D4-A0DB-E9832F2512D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C3B3-1FD2-41D7-8AC6-BDC11243617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28E7-2DDF-4643-9AD5-FD15C171259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ED6F-37D1-44B5-930B-DA78A3395EE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B5ED-0E6B-4BAC-9BD6-4FCEED938AE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E15-AD7B-4BFF-BC28-A5224487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45B-1996-46CA-BD06-45D7CCC0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2C3-4311-40E2-8841-5C419A9C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2E3-D7FC-4365-9134-1A193E86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CCF2-4E3A-48A0-AFAA-B4E1722B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0400-C3CC-4F6F-B540-EF5FDE98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83A2-6FA0-48A9-9FC6-17A0D108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17C9-B7FE-47F0-A4EA-DCD6CF4D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F66-B5A8-4ABD-85C2-C9B09DEF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6ACB-A441-42E1-B7D7-EAB30C4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5AFB-392C-4F94-9096-BA4B0B2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990-7701-4C20-BC19-2C365F21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BDD9-915A-4193-970F-2187651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5A2-45F5-4FFD-9361-76EBC7B0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50A0-AE69-4F5C-99E2-5E86C52E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649-E6AA-429C-BEFD-27D89319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693E-3F0D-4A51-AC7A-81DB45B5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BE8-A9CC-4569-8B8B-62EB45F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092-F835-4972-9EF5-DC15522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393-3230-4463-8014-A251D106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6AE-D860-41D5-93E7-2F93CC2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F16-6C00-4FB8-B7D5-2A3EFA0D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BD5-A27C-4B3E-BD25-E42046AC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AAA-C165-4D95-8866-D13C364D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E0BD-C80A-4989-88D3-130DB2F789A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6C2-899B-4162-A5C9-BFB2BDAB722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2708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 flipV="1" rot="10800000">
            <a:off x="324000" y="1438560"/>
            <a:ext cx="8353440" cy="46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total de muertes en mujeres de 10 a 54 años (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o de muertes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tado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tio de defunción (1- Hospital/clínica, 2- Centro/puesto de salud, 3- Casa/domicilio, 4- Lugar de trabajo, 5- Vía pública, 6- Otro y 9- Sin inform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variable recibió atención méd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 causa básica de defu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746280"/>
            <a:ext cx="864216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200" y="1628640"/>
          <a:ext cx="8929800" cy="3934080"/>
        </p:xfrm>
        <a:graphic>
          <a:graphicData uri="http://schemas.openxmlformats.org/drawingml/2006/table">
            <a:tbl>
              <a:tblPr/>
              <a:tblGrid>
                <a:gridCol w="1378080"/>
                <a:gridCol w="1170000"/>
                <a:gridCol w="1171440"/>
                <a:gridCol w="1465560"/>
                <a:gridCol w="1296720"/>
                <a:gridCol w="1173240"/>
                <a:gridCol w="1274760"/>
              </a:tblGrid>
              <a:tr h="1798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vo   embaraz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¿El antecedente de embarazo se descartó por historia clínica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n caso de no tener información en certificado de defun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descartó el embarazo por historia clínica reporte la ca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confirmó embarazo por historia clínica especif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leccione el códig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spo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 directa de mue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a anteced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estados patológicos import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Cuando falleci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En las últimas 6 sem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En los últimos 12 me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No estaba embarazad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-Sin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S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Histerectomí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Ooforectomía bilat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Infertilida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-Menopaus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-No había tenido la menarquí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-Otra_________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Estaba embarazada cuando falleció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Tuvo antecedente de embarazo en las últimas 6 sem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-Tuvo antecedente de embarazo en los últimos 12 meses (364 días)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fermedad cerebrovascular isquém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lamp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2"/>
          <p:cNvSpPr/>
          <p:nvPr/>
        </p:nvSpPr>
        <p:spPr>
          <a:xfrm>
            <a:off x="250920" y="747720"/>
            <a:ext cx="864216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istado de muertes en mujeres de 10 a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Unidad Primaria Generadora del Dato UPGD ( revisión dia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irección local de salud municipal (revisión sema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cretaria Departamental o Distrital de Salud. ( verificación y retroalimentación sema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3640" y="817560"/>
            <a:ext cx="856908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Responsables 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 Imagen" descr="Modulo 1 inicio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19160" y="44280"/>
            <a:ext cx="890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4920" y="1703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629080" y="29242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CHOQUE NEUROGÉ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394720" y="359244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EMORRAGIA INTRA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78720" y="43848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INDROME HE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565080" y="5877000"/>
            <a:ext cx="32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IPERTENSIÓN ASOCI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AL EMBA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35" name="Oval 11"/>
          <p:cNvSpPr/>
          <p:nvPr/>
        </p:nvSpPr>
        <p:spPr>
          <a:xfrm>
            <a:off x="3059280" y="909720"/>
            <a:ext cx="28872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258920" y="3284640"/>
            <a:ext cx="1873080" cy="431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4920" y="1703520"/>
            <a:ext cx="9144000" cy="5154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2197080" y="2924280"/>
            <a:ext cx="50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INSUFICIENCIA RESPIRATORA DEL AD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76920" y="438480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ROMBOEMBOLISMO PULMONAR MA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539640" y="1197000"/>
            <a:ext cx="28908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3059280" y="1197000"/>
            <a:ext cx="2887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5938920" y="1268280"/>
            <a:ext cx="2887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66360" y="359244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DEMA PULM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012000" y="321300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85680"/>
            <a:ext cx="885672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46240" y="743040"/>
            <a:ext cx="1657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600" spc="-1" strike="noStrike">
                <a:solidFill>
                  <a:srgbClr val="000000"/>
                </a:solidFill>
                <a:latin typeface="Arial Narrow"/>
              </a:rPr>
              <a:t>Ministerio de la Protección Social  </a:t>
            </a:r>
            <a:r>
              <a:rPr b="0" lang="es-CO" sz="600" spc="-1" strike="noStrike">
                <a:solidFill>
                  <a:srgbClr val="000000"/>
                </a:solidFill>
                <a:latin typeface="Arial Narrow"/>
              </a:rPr>
              <a:t>República de Colomb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63720" y="800280"/>
            <a:ext cx="721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3851280" y="321300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414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</a:rPr>
              <a:t>Caso confirm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51640" y="1988640"/>
            <a:ext cx="295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Notificación inmedi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6516720" y="3645000"/>
            <a:ext cx="934920" cy="976320"/>
          </a:xfrm>
          <a:prstGeom prst="downArrow">
            <a:avLst>
              <a:gd name="adj1" fmla="val 50000"/>
              <a:gd name="adj2" fmla="val 26107"/>
            </a:avLst>
          </a:prstGeom>
          <a:solidFill>
            <a:srgbClr val="33cccc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4067280" y="2060640"/>
            <a:ext cx="976320" cy="720720"/>
          </a:xfrm>
          <a:prstGeom prst="rightArrow">
            <a:avLst>
              <a:gd name="adj1" fmla="val 50000"/>
              <a:gd name="adj2" fmla="val 33866"/>
            </a:avLst>
          </a:prstGeom>
          <a:solidFill>
            <a:srgbClr val="33cccc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94036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Modul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title"/>
          </p:nvPr>
        </p:nvSpPr>
        <p:spPr>
          <a:xfrm>
            <a:off x="250560" y="817560"/>
            <a:ext cx="871380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15640" y="1989000"/>
            <a:ext cx="3779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Caso dudo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19280" y="1628280"/>
            <a:ext cx="37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Verificación con Historia Clín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4869000"/>
            <a:ext cx="421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 hay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ert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10 –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932720" y="53737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tificación Neg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443640" y="2924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4067280" y="206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867280" y="4149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odul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708360" y="5373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cccc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323640" y="890280"/>
            <a:ext cx="8569080" cy="522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916360" y="321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es suficiente la H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1 CuadroTexto"/>
          <p:cNvSpPr/>
          <p:nvPr/>
        </p:nvSpPr>
        <p:spPr>
          <a:xfrm>
            <a:off x="4788000" y="47181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ERIFICACION DEL EMBA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777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2 “Notificación de muertes maternas confirmada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13"/>
          <p:cNvGrpSpPr/>
          <p:nvPr/>
        </p:nvGrpSpPr>
        <p:grpSpPr>
          <a:xfrm>
            <a:off x="755640" y="1341360"/>
            <a:ext cx="7715160" cy="4429080"/>
            <a:chOff x="755640" y="1341360"/>
            <a:chExt cx="7715160" cy="4429080"/>
          </a:xfrm>
        </p:grpSpPr>
        <p:sp>
          <p:nvSpPr>
            <p:cNvPr id="173" name="1 Elipse"/>
            <p:cNvSpPr/>
            <p:nvPr/>
          </p:nvSpPr>
          <p:spPr>
            <a:xfrm>
              <a:off x="3470040" y="1341360"/>
              <a:ext cx="2214720" cy="12859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dentificación de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 Elipse"/>
            <p:cNvSpPr/>
            <p:nvPr/>
          </p:nvSpPr>
          <p:spPr>
            <a:xfrm>
              <a:off x="6256440" y="269856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lección de 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79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0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1" name="20 Conector recto de flecha"/>
            <p:cNvCxnSpPr>
              <a:stCxn id="174" idx="1"/>
              <a:endCxn id="177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82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78100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Rectangle 1"/>
          <p:cNvGrpSpPr/>
          <p:nvPr/>
        </p:nvGrpSpPr>
        <p:grpSpPr>
          <a:xfrm>
            <a:off x="2859120" y="2724120"/>
            <a:ext cx="6334200" cy="2208240"/>
            <a:chOff x="2859120" y="2724120"/>
            <a:chExt cx="6334200" cy="2208240"/>
          </a:xfrm>
        </p:grpSpPr>
        <p:pic>
          <p:nvPicPr>
            <p:cNvPr id="185" name="Rectangle 1" descr=""/>
            <p:cNvPicPr/>
            <p:nvPr/>
          </p:nvPicPr>
          <p:blipFill>
            <a:blip r:embed="rId1"/>
            <a:stretch/>
          </p:blipFill>
          <p:spPr>
            <a:xfrm>
              <a:off x="2859120" y="2724120"/>
              <a:ext cx="633420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040200" y="2909520"/>
              <a:ext cx="5979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tificar los casos de muerte materna confirmados desde la unidad primaria generadora del dato (UPGD) hasta el nivel naciona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2"/>
          <p:cNvSpPr/>
          <p:nvPr/>
        </p:nvSpPr>
        <p:spPr>
          <a:xfrm>
            <a:off x="250920" y="907920"/>
            <a:ext cx="8713800" cy="6494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nen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324000" y="329148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ificación inmediata e Individual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realiza ante la confirmación de un caso de muerte materna.  El propósito de esta clase de notificación es tomar las medidas de intervención de manera inmediat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250920" y="981000"/>
            <a:ext cx="8642160" cy="647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64720" cy="3816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330200" y="3933720"/>
            <a:ext cx="1873440" cy="432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44360" y="808200"/>
            <a:ext cx="8891640" cy="4600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466560" y="144360"/>
            <a:ext cx="8209080" cy="908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80360" cy="525780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50920" y="917640"/>
            <a:ext cx="8642160" cy="639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1773360"/>
            <a:ext cx="8907480" cy="5084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"/>
          <p:cNvSpPr/>
          <p:nvPr/>
        </p:nvSpPr>
        <p:spPr>
          <a:xfrm>
            <a:off x="250920" y="89064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2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250920" y="1353600"/>
            <a:ext cx="8569080" cy="43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erte materna confirm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stado ci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t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régimen de afil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grupo poblacional (población desplazada o indíg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 de res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 de res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municipio de ocur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departamento de ocurr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tio de defunción (1- Hospital/clínica, 2- Centro/puesto de salud, 3- Casa/domicilio, 4- Lugar de trabajo, 5- Vía pública, 6- Otro y 9- Sin inform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variable recibió atención mé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r embarazo actual, en los últimos 6 meses o en los últimos 12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tos del informante que atendió el caso y/o que notificó el ca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50920" y="89064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ariables relev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Sub modulo “Notificación por otras fuente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Notificación de casos en donde el sitio de defunción es diferente a una institución de salud y no hay un certificado de defun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ara casos que son enviados a medicina legal y la elaboración del certificado de defunción cursa otros tiemp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Otras situaciones en donde no se cuenta con certificado de defunción oportun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tiene la variables de la actual ficha de notific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57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Otras fuentes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88360" cy="5229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4000" y="747720"/>
            <a:ext cx="85690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Otras fuente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3 “Verificación de embarazo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64360" cy="3816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5"/>
          <p:cNvSpPr/>
          <p:nvPr/>
        </p:nvSpPr>
        <p:spPr>
          <a:xfrm>
            <a:off x="6012000" y="3430440"/>
            <a:ext cx="1655640" cy="5032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250920" y="963720"/>
            <a:ext cx="8624880" cy="59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15 CuadroTexto"/>
          <p:cNvGrpSpPr/>
          <p:nvPr/>
        </p:nvGrpSpPr>
        <p:grpSpPr>
          <a:xfrm>
            <a:off x="371520" y="2657520"/>
            <a:ext cx="8467560" cy="2073240"/>
            <a:chOff x="371520" y="2657520"/>
            <a:chExt cx="8467560" cy="2073240"/>
          </a:xfrm>
        </p:grpSpPr>
        <p:pic>
          <p:nvPicPr>
            <p:cNvPr id="215" name="15 CuadroTexto" descr=""/>
            <p:cNvPicPr/>
            <p:nvPr/>
          </p:nvPicPr>
          <p:blipFill>
            <a:blip r:embed="rId1"/>
            <a:stretch/>
          </p:blipFill>
          <p:spPr>
            <a:xfrm>
              <a:off x="371520" y="2657520"/>
              <a:ext cx="846756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11280" y="2781360"/>
              <a:ext cx="7993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ffffff"/>
                  </a:solidFill>
                  <a:latin typeface="Calibri"/>
                </a:rPr>
                <a:t>Confirmar  o descartar las muertes maternas que se encuentran dudosas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Título"/>
          <p:cNvSpPr/>
          <p:nvPr/>
        </p:nvSpPr>
        <p:spPr>
          <a:xfrm>
            <a:off x="68580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Componente de identificación de ca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Modulo 1 “Reporte de Muertes en Mujeres de 10 a 54 años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684360" y="256392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ódulo 3 se aplicará en aquellos casos de muerte en los cuales no se pudo establecer el antecedente de embarazo en la revisión de historia clínica y fueron clasificados como casos dudosos en el módul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firmación o descarte de casos dudosos: la secretaría municipal o departamental si fuere el caso (Unidad notificadora), tiene 15 días calendario para descartar o confirmar los casos dud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50920" y="890640"/>
            <a:ext cx="8785080" cy="666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79280" y="961920"/>
            <a:ext cx="8713800" cy="738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ódulo 3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-36360" y="1916280"/>
            <a:ext cx="91803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magen 1" descr=""/>
          <p:cNvPicPr/>
          <p:nvPr/>
        </p:nvPicPr>
        <p:blipFill>
          <a:blip r:embed="rId1"/>
          <a:stretch/>
        </p:blipFill>
        <p:spPr>
          <a:xfrm>
            <a:off x="-36360" y="0"/>
            <a:ext cx="78483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11253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Flujograma  Modulo 3 </a:t>
            </a:r>
            <a:br>
              <a:rPr sz="2400"/>
            </a:b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     Confirmación o descarte de antecedentes       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obstétr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ves para el diligenciam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95280" y="1943640"/>
            <a:ext cx="8353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coordinador o encargado municipal o referente de la unidad notificadora deberá ir hasta la casa de los familiares cercanos de la mujer fallecida, con cita prev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SV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scarta la muerte materna se finalizará 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 de confirmarse la muerte materna se debe diligenciar el módulo 4A (entrevista familiar) y en los casos en que aplique el 4 B (autopsia verbal), en caso de no ser posible en ese momento se debe concertar una nueva fecha para la investig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información recolectada en la entrevista se deberá migrar a 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te módulo deberá ser diligenciad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áximo en los  15 días siguientes a la notificación de la muer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5"/>
          <p:cNvGrpSpPr/>
          <p:nvPr/>
        </p:nvGrpSpPr>
        <p:grpSpPr>
          <a:xfrm>
            <a:off x="755640" y="1341360"/>
            <a:ext cx="7715160" cy="4429080"/>
            <a:chOff x="755640" y="1341360"/>
            <a:chExt cx="7715160" cy="4429080"/>
          </a:xfrm>
        </p:grpSpPr>
        <p:sp>
          <p:nvSpPr>
            <p:cNvPr id="95" name="1 Elipse"/>
            <p:cNvSpPr/>
            <p:nvPr/>
          </p:nvSpPr>
          <p:spPr>
            <a:xfrm>
              <a:off x="3470040" y="1341360"/>
              <a:ext cx="2214720" cy="1285920"/>
            </a:xfrm>
            <a:prstGeom prst="ellipse">
              <a:avLst/>
            </a:prstGeom>
            <a:solidFill>
              <a:srgbClr val="99cc00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Identificación de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3 Elipse"/>
            <p:cNvSpPr/>
            <p:nvPr/>
          </p:nvSpPr>
          <p:spPr>
            <a:xfrm>
              <a:off x="1228680" y="4484520"/>
              <a:ext cx="29559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mendaciones y ac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4 Elipse"/>
            <p:cNvSpPr/>
            <p:nvPr/>
          </p:nvSpPr>
          <p:spPr>
            <a:xfrm>
              <a:off x="4973400" y="4473360"/>
              <a:ext cx="221472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Análisis de hallazg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5 Elipse"/>
            <p:cNvSpPr/>
            <p:nvPr/>
          </p:nvSpPr>
          <p:spPr>
            <a:xfrm>
              <a:off x="6256440" y="269856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Recolección de 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6 Elipse"/>
            <p:cNvSpPr/>
            <p:nvPr/>
          </p:nvSpPr>
          <p:spPr>
            <a:xfrm>
              <a:off x="755640" y="2627280"/>
              <a:ext cx="2214360" cy="1285920"/>
            </a:xfrm>
            <a:prstGeom prst="ellipse">
              <a:avLst/>
            </a:prstGeom>
            <a:solidFill>
              <a:srgbClr val="ffcc00">
                <a:alpha val="5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000000"/>
                  </a:solidFill>
                  <a:latin typeface="Calibri"/>
                </a:rPr>
                <a:t>Evaluación y refin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9 Conector recto de flecha"/>
            <p:cNvCxnSpPr/>
            <p:nvPr/>
          </p:nvCxnSpPr>
          <p:spPr>
            <a:xfrm>
              <a:off x="5717880" y="2055600"/>
              <a:ext cx="967320" cy="689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11 Conector recto de flecha"/>
            <p:cNvCxnSpPr/>
            <p:nvPr/>
          </p:nvCxnSpPr>
          <p:spPr>
            <a:xfrm flipH="1">
              <a:off x="6684480" y="3913200"/>
              <a:ext cx="286560" cy="7149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2" name="16 Conector recto de flecha"/>
            <p:cNvCxnSpPr/>
            <p:nvPr/>
          </p:nvCxnSpPr>
          <p:spPr>
            <a:xfrm flipH="1" flipV="1">
              <a:off x="4183920" y="5270040"/>
              <a:ext cx="786600" cy="21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3" name="20 Conector recto de flecha"/>
            <p:cNvCxnSpPr>
              <a:stCxn id="96" idx="1"/>
              <a:endCxn id="99" idx="4"/>
            </p:cNvCxnSpPr>
            <p:nvPr/>
          </p:nvCxnSpPr>
          <p:spPr>
            <a:xfrm flipV="1">
              <a:off x="1662120" y="3912840"/>
              <a:ext cx="202320" cy="7610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4" name="24 Conector recto de flecha"/>
            <p:cNvCxnSpPr/>
            <p:nvPr/>
          </p:nvCxnSpPr>
          <p:spPr>
            <a:xfrm flipV="1">
              <a:off x="2398680" y="1984320"/>
              <a:ext cx="1000800" cy="643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576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2781000"/>
            <a:ext cx="2449440" cy="6476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3203640" y="2708280"/>
            <a:ext cx="976320" cy="792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umentar la sensibilidad y oportunidad del sistema,  identificando las muertes maternas, dentro del grupo de muertes de mujeres de 10 a 54 añ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3644640"/>
            <a:ext cx="4038480" cy="1439640"/>
          </a:xfrm>
          <a:prstGeom prst="rect">
            <a:avLst/>
          </a:prstGeom>
          <a:solidFill>
            <a:srgbClr val="00ccff">
              <a:alpha val="22000"/>
            </a:srgbClr>
          </a:solidFill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ntificación de TODAS las  muertes de mujeres de 10 a 54 añ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566360"/>
            <a:ext cx="4465800" cy="4526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ntificación de muertes maternas que no hayan podido captarse, debido al no diligenciamiento del antecedente de embarazo dentro del certificado de defunción ó por ser una muerte extra hospitalaria ó aquellas que no fueron reportadas por ser tardías (post puerper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2"/>
          <p:cNvSpPr/>
          <p:nvPr/>
        </p:nvSpPr>
        <p:spPr>
          <a:xfrm rot="19800600">
            <a:off x="834840" y="-19080"/>
            <a:ext cx="4518000" cy="2643120"/>
          </a:xfrm>
          <a:custGeom>
            <a:avLst/>
            <a:gdLst>
              <a:gd name="textAreaLeft" fmla="*/ 957600 w 4518000"/>
              <a:gd name="textAreaRight" fmla="*/ 3158640 w 4518000"/>
              <a:gd name="textAreaTop" fmla="*/ 353880 h 2643120"/>
              <a:gd name="textAreaBottom" fmla="*/ 228924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56" hR="21600" stAng="10800000" swAng="5400000"/>
                <a:lnTo>
                  <a:pt x="10523" y="0"/>
                </a:lnTo>
                <a:arcTo wR="9156" hR="21600" stAng="-5400000" swAng="3644677"/>
                <a:lnTo>
                  <a:pt x="21352" y="16610"/>
                </a:lnTo>
                <a:lnTo>
                  <a:pt x="18996" y="21600"/>
                </a:lnTo>
                <a:lnTo>
                  <a:pt x="16143" y="16610"/>
                </a:lnTo>
                <a:lnTo>
                  <a:pt x="18064" y="16610"/>
                </a:lnTo>
                <a:arcTo wR="9156" hR="21600" stAng="-1755323" swAng="-3535627"/>
                <a:lnTo>
                  <a:pt x="9840" y="60"/>
                </a:lnTo>
                <a:arcTo wR="9156" hR="21600" stAng="-5509050" swAng="-5290950"/>
                <a:close/>
              </a:path>
              <a:path fill="darkenLess" w="21600" h="21600">
                <a:moveTo>
                  <a:pt x="0" y="21600"/>
                </a:moveTo>
                <a:arcTo wR="9156" hR="21600" stAng="10800000" swAng="5400000"/>
                <a:lnTo>
                  <a:pt x="9156" y="0"/>
                </a:lnTo>
                <a:arcTo wR="9156" hR="21600" stAng="-5400000" swAng="109050"/>
                <a:lnTo>
                  <a:pt x="9840" y="60"/>
                </a:lnTo>
                <a:arcTo wR="9156" hR="21600" stAng="-5509050" swAng="-5290950"/>
                <a:close/>
              </a:path>
            </a:pathLst>
          </a:custGeom>
          <a:solidFill>
            <a:srgbClr val="800080">
              <a:alpha val="13000"/>
            </a:srgbClr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50920" y="692280"/>
            <a:ext cx="8642160" cy="566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uente de información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68360" y="2205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73200" y="2421000"/>
            <a:ext cx="82296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539640" y="2492280"/>
            <a:ext cx="806472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ertificado de defunción ya sea en físico o dentro del Sistema de Registro Único de Afiliación  RU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50920" y="692280"/>
            <a:ext cx="8642160" cy="5950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ódulo 1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8280360" cy="22338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0:46:34Z</dcterms:modified>
  <cp:revision>1942</cp:revision>
  <dc:subject/>
  <dc:title>Diapositiva 1</dc:title>
</cp:coreProperties>
</file>