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55B2-6602-402C-A015-D5B7C9B1A82A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61A49B-CABF-40B1-9F56-8AF0C9F239AE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D22A-1757-4E04-A84C-1C67F0280466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EA56-EAC0-43E3-BAB0-EF56488C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A5E1-5EEF-410C-8A92-0C58AD74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8342-D0D4-431A-BA6F-47C9F3DD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04ED-1258-4609-8C32-48AC8A33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C658-9355-4D44-8469-C4FD9DCD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2028-99C9-4227-8F34-94E4470C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BC3-D9DD-4EBD-9C94-CCDF9F3A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0811-FE3E-4F0D-8D03-3C28E1CC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5CB1-3B95-4C68-9043-6332CC0A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007-334B-40C1-AA1A-6278308E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6F18-EB68-44D6-BA95-5ADA3BCB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D49F-568F-4596-8464-2C445EB3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9AE6-4F7A-4C28-BAC7-BE12432538D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logoINS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785960" y="1214280"/>
            <a:ext cx="5786280" cy="434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15920" y="833400"/>
            <a:ext cx="8913960" cy="51912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2340000" y="3500280"/>
            <a:ext cx="1511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NN 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2 CuadroTexto"/>
          <p:cNvSpPr/>
          <p:nvPr/>
        </p:nvSpPr>
        <p:spPr>
          <a:xfrm>
            <a:off x="900000" y="2997360"/>
            <a:ext cx="6985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Vi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Pertin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Oportun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valuación y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1268280"/>
            <a:ext cx="9144000" cy="114300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Narrow"/>
              </a:rPr>
              <a:t>Monitoreo a la implantación de acciones del pl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2 CuadroTexto"/>
          <p:cNvSpPr/>
          <p:nvPr/>
        </p:nvSpPr>
        <p:spPr>
          <a:xfrm>
            <a:off x="755640" y="1557360"/>
            <a:ext cx="7705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Viabilida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alibri"/>
              </a:rPr>
              <a:t>Que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Asegurar que se dispone de los recursos humanos, físicos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y  económicos, para la ejecución de las accio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alibri"/>
              </a:rPr>
              <a:t>Como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Describiendo los recursos que serán necesarios para la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ejecución del plan, cuantificando las necesidades 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económicas y fijando el origen de los recurs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alibri"/>
              </a:rPr>
              <a:t>Donde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Institución donde se realiza la formulación del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alibri"/>
              </a:rPr>
              <a:t>Cuando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: Antes de ser cargado al aplicativo web (Alerta 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alibri"/>
              </a:rPr>
              <a:t>Quien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Comité responsable de la formulación del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alibri"/>
              </a:rPr>
              <a:t>Soporte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: Reserva presupuestal y / o Presupues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2 CuadroTexto"/>
          <p:cNvSpPr/>
          <p:nvPr/>
        </p:nvSpPr>
        <p:spPr>
          <a:xfrm>
            <a:off x="971640" y="1052640"/>
            <a:ext cx="6985080" cy="54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Pertinenc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alibri"/>
              </a:rPr>
              <a:t>Que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Verificar que las intervenciones propuestas responden a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las necesidades identificadas y que las mismas son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lcanzables y medi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alibri"/>
              </a:rPr>
              <a:t>Como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nalizando si la acción de mejora esta dirigida a producir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un impacto positivo sobre la necesidad descrita en el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factor determinante. Las acciones deben ser alcanzables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y medi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alibri"/>
              </a:rPr>
              <a:t>Donde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omité municipal o departamental de evaluación al plan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e mejora (superior jerárquic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alibri"/>
              </a:rPr>
              <a:t>Cuando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Máximo 8 días posteriores a formulación del plan (Alerta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alibri"/>
              </a:rPr>
              <a:t>Quien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Superior jerárquico (Comit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alibri"/>
              </a:rPr>
              <a:t>Soporte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Firma de la persona que verifica la pertinencia (Alerta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2 CuadroTexto"/>
          <p:cNvSpPr/>
          <p:nvPr/>
        </p:nvSpPr>
        <p:spPr>
          <a:xfrm>
            <a:off x="1116000" y="1125360"/>
            <a:ext cx="6985080" cy="54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libri"/>
              </a:rPr>
              <a:t>Oportunida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0000"/>
                </a:solidFill>
                <a:latin typeface="Calibri"/>
              </a:rPr>
              <a:t>Que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Realizar seguimiento al cumplimiento de los plazos 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para la ejecución de las acciones formuladas en el 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plan de mejora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0000"/>
                </a:solidFill>
                <a:latin typeface="Calibri"/>
              </a:rPr>
              <a:t>Como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Verificando los soportes de ejecución de las acciones 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y registrando en el aplicativo web su cumplimiento. 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(Alerta 3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0000"/>
                </a:solidFill>
                <a:latin typeface="Calibri"/>
              </a:rPr>
              <a:t>Donde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 Institución donde se realiza la formulación del pl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0000"/>
                </a:solidFill>
                <a:latin typeface="Calibri"/>
              </a:rPr>
              <a:t>Cuando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 Máximo 2 días posteriores al plazo fijado para la 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 ejecución de las accion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0000"/>
                </a:solidFill>
                <a:latin typeface="Calibri"/>
              </a:rPr>
              <a:t>Quien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 Líder del pl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0000"/>
                </a:solidFill>
                <a:latin typeface="Calibri"/>
              </a:rPr>
              <a:t>Soporte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: Soporte de ejecución / Confirmación de la ejecución 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Calibri"/>
              </a:rPr>
              <a:t>  registrada en el aplicativo web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2 CuadroTexto"/>
          <p:cNvSpPr/>
          <p:nvPr/>
        </p:nvSpPr>
        <p:spPr>
          <a:xfrm>
            <a:off x="324000" y="836640"/>
            <a:ext cx="8496000" cy="57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Evaluación y cier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Calibri"/>
              </a:rPr>
              <a:t>Que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uantificar el porcentaje de cumplimiento de las acciones de mejoramiento,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valuar el impacto de las mismas sobre los factores determinantes e identificar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oportunidades de mej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Calibri"/>
              </a:rPr>
              <a:t>Como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alculando el porcentaje de acciones ejecutadas y acciones ejecutadas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oportunamente. Evaluando el impacto de las acciones de mejora sobre los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factores determinantes (Porcentaje de acciones que impactaron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ositivamente). Ajustando el plan de mejoramiento con las acciones no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umplidas y con nuevas acciones dirigidas a producir un impacto positivo sobre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la necesidades descritas en el factor determinante no modifi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Calibri"/>
              </a:rPr>
              <a:t>Donde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Institución donde se realiza la formulación del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Calibri"/>
              </a:rPr>
              <a:t>Cuando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ada mes y 15 días después de vencido el último plazo de ejecución de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ac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Calibri"/>
              </a:rPr>
              <a:t>Quien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omité responsable de la formulación del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Calibri"/>
              </a:rPr>
              <a:t>Soporte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Actas de seguimiento al plan de mejora / Ajustes al plan de mejora cargados en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la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5 Rectángulo redondeado"/>
          <p:cNvSpPr/>
          <p:nvPr/>
        </p:nvSpPr>
        <p:spPr>
          <a:xfrm>
            <a:off x="3348000" y="177336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826920" y="1623960"/>
            <a:ext cx="7201080" cy="40370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187280" y="105264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Indicadores evaluación al monitoreo de imple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4 CuadroTexto"/>
          <p:cNvSpPr/>
          <p:nvPr/>
        </p:nvSpPr>
        <p:spPr>
          <a:xfrm>
            <a:off x="3348000" y="1700280"/>
            <a:ext cx="576360" cy="27648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Alertas y semaforiz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575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Alertas al proceso definición del plan de ac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Alertas frente al cumplimiento de las acciones propuest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Semaforiz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49400" y="981000"/>
            <a:ext cx="8815320" cy="518472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Inducción y capacitación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Sistema de Vigilancia Epidemiológica de Mortalidad Materna Basado en la Web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Octubre 3, 4 y 5 de 201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900" spc="-1" strike="noStrike">
                <a:solidFill>
                  <a:srgbClr val="000000"/>
                </a:solidFill>
                <a:latin typeface="Calibri"/>
              </a:rPr>
              <a:t>Monitoreo a la implementación de accion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250920" y="1341360"/>
          <a:ext cx="849780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4978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395280" y="97092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 Narrow"/>
              </a:rPr>
              <a:t>Entidades y Organizaciones participantes del pro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Ministerio de Salud y Protec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Instituto Nacional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s Departamentales de Salud de Antioquia, Caldas, V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s Municipales de Salud de Medellín, Manizales y C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 Distrital de Salud de Bogotá, D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Organización Mundial de la Salud, Departamento de MPS/CAH  Ginebra, Su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Organización Panamericana de la Salud/ Oficina de la Representación en Colo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 Latinoamericano de Perinatología-CLAP, Organización Panamericana de la Salud Montevideo, 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 NACER, Salud Sexual y reproductiva - Universidad de Antioqu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s para el Control y Prevención de Enfermedades (CD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 Narrow"/>
              </a:rPr>
              <a:t>Agencia auspiciadora del pro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Agencia de los Estados Unidos para el Desarrollo Internacional (USAID), Oficina América Latina y el Caribe, Washington D.C., Estados Unidos de Norteam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3 Título"/>
          <p:cNvSpPr/>
          <p:nvPr/>
        </p:nvSpPr>
        <p:spPr>
          <a:xfrm>
            <a:off x="685800" y="22464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Componente de recomendaciones y 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Módulo 7 “Plan de ac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5"/>
          <p:cNvGrpSpPr/>
          <p:nvPr/>
        </p:nvGrpSpPr>
        <p:grpSpPr>
          <a:xfrm>
            <a:off x="755640" y="1984320"/>
            <a:ext cx="6432480" cy="3774960"/>
            <a:chOff x="755640" y="1984320"/>
            <a:chExt cx="6432480" cy="3774960"/>
          </a:xfrm>
        </p:grpSpPr>
        <p:sp>
          <p:nvSpPr>
            <p:cNvPr id="54" name="4 Elipse"/>
            <p:cNvSpPr/>
            <p:nvPr/>
          </p:nvSpPr>
          <p:spPr>
            <a:xfrm>
              <a:off x="4973400" y="4473360"/>
              <a:ext cx="221472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Análisis de hallazg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6 Elipse"/>
            <p:cNvSpPr/>
            <p:nvPr/>
          </p:nvSpPr>
          <p:spPr>
            <a:xfrm>
              <a:off x="755640" y="2627280"/>
              <a:ext cx="221436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Evaluación y refina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" name="9 Conector recto de flecha"/>
            <p:cNvCxnSpPr/>
            <p:nvPr/>
          </p:nvCxnSpPr>
          <p:spPr>
            <a:xfrm>
              <a:off x="5717880" y="2055600"/>
              <a:ext cx="967320" cy="6897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57" name="11 Conector recto de flecha"/>
            <p:cNvCxnSpPr/>
            <p:nvPr/>
          </p:nvCxnSpPr>
          <p:spPr>
            <a:xfrm flipH="1">
              <a:off x="6684480" y="3913200"/>
              <a:ext cx="286560" cy="7149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58" name="16 Conector recto de flecha"/>
            <p:cNvCxnSpPr/>
            <p:nvPr/>
          </p:nvCxnSpPr>
          <p:spPr>
            <a:xfrm flipH="1" flipV="1">
              <a:off x="4183920" y="5270040"/>
              <a:ext cx="786600" cy="21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59" name="20 Conector recto de flecha"/>
            <p:cNvCxnSpPr>
              <a:endCxn id="55" idx="4"/>
            </p:cNvCxnSpPr>
            <p:nvPr/>
          </p:nvCxnSpPr>
          <p:spPr>
            <a:xfrm flipV="1">
              <a:off x="1662120" y="3912840"/>
              <a:ext cx="202320" cy="76104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60" name="24 Conector recto de flecha"/>
            <p:cNvCxnSpPr/>
            <p:nvPr/>
          </p:nvCxnSpPr>
          <p:spPr>
            <a:xfrm flipV="1">
              <a:off x="2398680" y="1984320"/>
              <a:ext cx="1000800" cy="64332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</p:grpSp>
      <p:sp>
        <p:nvSpPr>
          <p:cNvPr id="61" name="21 Elipse"/>
          <p:cNvSpPr/>
          <p:nvPr/>
        </p:nvSpPr>
        <p:spPr>
          <a:xfrm>
            <a:off x="3564000" y="1052640"/>
            <a:ext cx="2214360" cy="1285920"/>
          </a:xfrm>
          <a:prstGeom prst="ellipse">
            <a:avLst/>
          </a:prstGeom>
          <a:solidFill>
            <a:srgbClr val="ffcc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Identificación de c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2 Elipse"/>
          <p:cNvSpPr/>
          <p:nvPr/>
        </p:nvSpPr>
        <p:spPr>
          <a:xfrm>
            <a:off x="1116000" y="4653000"/>
            <a:ext cx="2808360" cy="1285920"/>
          </a:xfrm>
          <a:prstGeom prst="ellipse">
            <a:avLst/>
          </a:prstGeom>
          <a:solidFill>
            <a:srgbClr val="99cc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ecomendaciones y ac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13 Elipse"/>
          <p:cNvSpPr/>
          <p:nvPr/>
        </p:nvSpPr>
        <p:spPr>
          <a:xfrm>
            <a:off x="6227640" y="2637000"/>
            <a:ext cx="2214720" cy="1285560"/>
          </a:xfrm>
          <a:prstGeom prst="ellipse">
            <a:avLst/>
          </a:prstGeom>
          <a:solidFill>
            <a:srgbClr val="ffcc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ecolección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16 CuadroTexto"/>
          <p:cNvSpPr/>
          <p:nvPr/>
        </p:nvSpPr>
        <p:spPr>
          <a:xfrm>
            <a:off x="468360" y="2781360"/>
            <a:ext cx="8209080" cy="3020040"/>
          </a:xfrm>
          <a:prstGeom prst="rect">
            <a:avLst/>
          </a:prstGeom>
          <a:solidFill>
            <a:srgbClr val="ffcc00">
              <a:alpha val="3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Establecer las acciones requeridas para prevenir, mitigar  y corregir los factores identificados que contribuyeron directa e indirectamente en la muerte ma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Estas acciones son identificadas y consensuadas por el comité de análisis departamental y desarrolladas por todos los actores e instituciones involucrados alrededor de los casos de muerte ma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79280" y="1125360"/>
            <a:ext cx="8642520" cy="114300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8654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ódulo 7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187280" y="3716280"/>
            <a:ext cx="1746360" cy="520560"/>
          </a:xfrm>
          <a:prstGeom prst="rect">
            <a:avLst/>
          </a:prstGeom>
          <a:solidFill>
            <a:srgbClr val="00ccff">
              <a:alpha val="11000"/>
            </a:srgbClr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MUJ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635280" y="3716280"/>
            <a:ext cx="1737000" cy="520560"/>
          </a:xfrm>
          <a:prstGeom prst="rect">
            <a:avLst/>
          </a:prstGeom>
          <a:solidFill>
            <a:srgbClr val="3366ff">
              <a:alpha val="29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FAM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6012000" y="3716280"/>
            <a:ext cx="2590560" cy="520560"/>
          </a:xfrm>
          <a:prstGeom prst="rect">
            <a:avLst/>
          </a:prstGeom>
          <a:solidFill>
            <a:srgbClr val="3366ff">
              <a:alpha val="29000"/>
            </a:srgbClr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COMUN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1187280" y="4869000"/>
            <a:ext cx="7056720" cy="1191240"/>
          </a:xfrm>
          <a:prstGeom prst="rect">
            <a:avLst/>
          </a:prstGeom>
          <a:solidFill>
            <a:srgbClr val="33cccc">
              <a:alpha val="34000"/>
            </a:srgbClr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SISTEMA DE SALU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(ASEGURAMIENTO - ACCESO - PRESTACION SERVICIOS DE SALU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1258920" y="2997360"/>
            <a:ext cx="7058160" cy="398880"/>
          </a:xfrm>
          <a:prstGeom prst="rect">
            <a:avLst/>
          </a:prstGeom>
          <a:solidFill>
            <a:srgbClr val="800080">
              <a:alpha val="43000"/>
            </a:srgbClr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CATEGORIAS ORDENADORAS PLAN DE AC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468360" y="2133720"/>
            <a:ext cx="8280360" cy="45972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ENFOQUE DETERMINANTES SOCIALES DE LA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000" y="2565360"/>
            <a:ext cx="84358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Componentes del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Factores identific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Situaciones hall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Que se va a realiz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1052640"/>
            <a:ext cx="9144000" cy="93636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ódulo 7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4000" y="256500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Como se va a realiz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Quien lo va a realiz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Cuando se realizar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Mecanismo de verific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1413000"/>
            <a:ext cx="9144000" cy="100800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ódulo 7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7:31:15Z</dcterms:created>
  <dc:creator>k</dc:creator>
  <dc:description/>
  <dc:language>en-US</dc:language>
  <cp:lastModifiedBy>OPS</cp:lastModifiedBy>
  <dcterms:modified xsi:type="dcterms:W3CDTF">2012-10-03T10:38:40Z</dcterms:modified>
  <cp:revision>1930</cp:revision>
  <dc:subject/>
  <dc:title>Diapositiva 1</dc:title>
</cp:coreProperties>
</file>